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99CCE67-EB0D-413F-84F7-9A98FEAA331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963960" y="-1440"/>
            <a:ext cx="3036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3240" y="-1440"/>
            <a:ext cx="3033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81240" y="571680"/>
            <a:ext cx="4444920" cy="33336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75880" y="4052520"/>
            <a:ext cx="5265720" cy="43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Implementing IPv6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Defining IPv6 Address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9400" y="1447920"/>
            <a:ext cx="8843760" cy="20048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Arial"/>
              </a:rPr>
              <a:t>Simple and Efficient Head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6480" y="3929040"/>
            <a:ext cx="6519600" cy="2052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 simpler and more efficient header mea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4-bit aligned fields and fewer fiel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ardware-based, efficient proces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mproved routing efficiency and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aster forwarding rate with better scal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5840" y="1494000"/>
            <a:ext cx="8537400" cy="4771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Pv4 and IPv6 Header Comparis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00160" y="1743120"/>
            <a:ext cx="6773760" cy="2622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Arial"/>
              </a:rPr>
              <a:t>IPv6 Extension Heade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4481640"/>
            <a:ext cx="7940880" cy="1768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Simpler and more efficient header mea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IPv6 has extension head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It handles the options more efficient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It enables faster forwarding rate and end nodes process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23960" y="3708360"/>
            <a:ext cx="7467480" cy="237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Pv6 Address Represent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47640" y="1650960"/>
            <a:ext cx="81914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79000"/>
          </a:bodyPr>
          <a:p>
            <a:pPr indent="0">
              <a:lnSpc>
                <a:spcPct val="95000"/>
              </a:lnSpc>
              <a:spcBef>
                <a:spcPts val="913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宋体"/>
              </a:rPr>
              <a:t>Format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270720" indent="-180360">
              <a:lnSpc>
                <a:spcPct val="95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x,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where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is a 16-bit hexadecimal field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-180360">
              <a:lnSpc>
                <a:spcPct val="95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Case-insensitive for hexadecimal A, B, C, D, E, and F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70720" indent="-180360">
              <a:lnSpc>
                <a:spcPct val="95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Leading zeros in a field are optional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-180360">
              <a:lnSpc>
                <a:spcPct val="95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2031</a:t>
            </a:r>
            <a:r>
              <a:rPr b="1" lang="en-US" sz="1700" spc="-1" strike="noStrike">
                <a:solidFill>
                  <a:srgbClr val="b92b38"/>
                </a:solidFill>
                <a:latin typeface="Arial"/>
                <a:ea typeface="宋体"/>
              </a:rPr>
              <a:t>:0: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130F</a:t>
            </a:r>
            <a:r>
              <a:rPr b="1" lang="en-US" sz="1700" spc="-1" strike="noStrike">
                <a:solidFill>
                  <a:srgbClr val="b92b38"/>
                </a:solidFill>
                <a:latin typeface="Arial"/>
                <a:ea typeface="宋体"/>
              </a:rPr>
              <a:t>:0:0:9C0: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876A:130B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70720" indent="-180360">
              <a:lnSpc>
                <a:spcPct val="95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Successive fields of 0 can be represented as ::, but only once per address.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70720" indent="0">
              <a:lnSpc>
                <a:spcPct val="95000"/>
              </a:lnSpc>
              <a:spcBef>
                <a:spcPts val="737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Examples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-180360">
              <a:lnSpc>
                <a:spcPct val="95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2031:0000:130F:0000:0000:09C0:876A:130B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-180360">
              <a:lnSpc>
                <a:spcPct val="95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2031:0:130f</a:t>
            </a:r>
            <a:r>
              <a:rPr b="1" lang="en-US" sz="1700" spc="-1" strike="noStrike">
                <a:solidFill>
                  <a:srgbClr val="b92b38"/>
                </a:solidFill>
                <a:latin typeface="Arial"/>
                <a:ea typeface="宋体"/>
              </a:rPr>
              <a:t>::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9c0:876a:130b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-180360">
              <a:lnSpc>
                <a:spcPct val="95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2031</a:t>
            </a:r>
            <a:r>
              <a:rPr b="1" lang="en-US" sz="1700" spc="-1" strike="noStrike">
                <a:solidFill>
                  <a:srgbClr val="b92b38"/>
                </a:solidFill>
                <a:latin typeface="Arial"/>
                <a:ea typeface="宋体"/>
              </a:rPr>
              <a:t>::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130f</a:t>
            </a:r>
            <a:r>
              <a:rPr b="1" lang="en-US" sz="1700" spc="-1" strike="noStrike">
                <a:solidFill>
                  <a:srgbClr val="b92b38"/>
                </a:solidFill>
                <a:latin typeface="Arial"/>
                <a:ea typeface="宋体"/>
              </a:rPr>
              <a:t>::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9c0:876a:130b—incorrect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-180360">
              <a:lnSpc>
                <a:spcPct val="95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FF01:0:0:0:0:0:0:1    FF01::1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-180360">
              <a:lnSpc>
                <a:spcPct val="95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0:0:0:0:0:0:0:1    ::1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41440" indent="-180360">
              <a:lnSpc>
                <a:spcPct val="95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0:0:0:0:0:0:0:0    :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1680" y="52243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55738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59119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Arial"/>
              </a:rPr>
              <a:t>IPv6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Address Types</a:t>
            </a:r>
            <a:r>
              <a:rPr b="1" lang="fr-CA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5560" y="15699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76000"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IPv6 us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17352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Arial"/>
              </a:rPr>
              <a:t>Unic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20920" indent="-17352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Arial"/>
              </a:rPr>
              <a:t>Address is for a single interfac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20920" indent="-17352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Arial"/>
              </a:rPr>
              <a:t>IPv6 ha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everal</a:t>
            </a:r>
            <a:r>
              <a:rPr b="1" lang="fr-CA" sz="1600" spc="-1" strike="noStrike">
                <a:solidFill>
                  <a:srgbClr val="000000"/>
                </a:solidFill>
                <a:latin typeface="Arial"/>
              </a:rPr>
              <a:t> types (for example, global and IPv4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apped</a:t>
            </a:r>
            <a:r>
              <a:rPr b="1" lang="fr-CA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17352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Arial"/>
              </a:rPr>
              <a:t>Multic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20920" indent="-17352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Arial"/>
              </a:rPr>
              <a:t>One-to-man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20920" indent="-17352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Arial"/>
              </a:rPr>
              <a:t>Enables more efficient use of the networ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20920" indent="-17352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Arial"/>
              </a:rPr>
              <a:t>Uses a larger address ran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17352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Arial"/>
              </a:rPr>
              <a:t>Anyc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20920" indent="-17352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Arial"/>
              </a:rPr>
              <a:t>One-to-nearest (allocated from unicast address spac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20920" indent="-17352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Arial"/>
              </a:rPr>
              <a:t>Multiple devices share the same addres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20920" indent="-17352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Arial"/>
              </a:rPr>
              <a:t>All anycast nodes should provide uniform servic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20920" indent="-17352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Arial"/>
              </a:rPr>
              <a:t>Source devices send packets to anycast addres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20920" indent="-17352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Arial"/>
              </a:rPr>
              <a:t>Routers decide on closest device to reach that destina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20920" indent="-17352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Arial"/>
              </a:rPr>
              <a:t>Suitable for load balancing and content delivery servic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73040" y="1447920"/>
            <a:ext cx="6396120" cy="1695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48844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Pv6 Global Unicast (and Anycast)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Address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3276720"/>
            <a:ext cx="7619760" cy="3047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Pv6 has same address format for global unicast and for anycas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612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Uses a global routing prefix—a structure that enables aggregation upward, eventually to the ISP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612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 single interface may be assigned multiple addresses of any type (unicast, anycast, multicast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612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very IPv6-enabled interface must contain at least one loopback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::1/128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and one link-local addres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612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Optionally, every interface can have multiple unique local and global addresse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612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nycast address is a global unicast address assigned to a set of interfaces (typically on different nodes)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612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Pv6 anycast is used for a network multihomed to several ISPs that have multiple connections to each other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Pv6 Unicast  Address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v6 addressing rules are covered by multiple RFC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rchitecture defined by RFC 4291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nicast: One to o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lob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ink local (FE80::/1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single interface may be assigned multiple IPv6 addresses of any type: unicast, anycast, or multica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IPv6 header has 40 octets and is simpler and more efficient than the IPv4 header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v6 addresses use 16-bit hexadecimal number fields separated by colons (:) to represent the 128-bit addressing forma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three types of IPv6 addresses are unicast, multicast, and anyca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6:14:29Z</dcterms:created>
  <dc:creator>Cisco User</dc:creator>
  <dc:description/>
  <dc:language>en-US</dc:language>
  <cp:lastModifiedBy>whccie</cp:lastModifiedBy>
  <dcterms:modified xsi:type="dcterms:W3CDTF">2007-01-17T09:10:08Z</dcterms:modified>
  <cp:revision>216</cp:revision>
  <dc:subject/>
  <dc:title>Objectives</dc:title>
</cp:coreProperties>
</file>