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EB85682-4E70-4712-83BC-4C2780400F9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981F023-F664-4365-8841-37BB221D4FE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B6DEADE-F38C-4057-948D-CBBC611B2CD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76283A8-4785-4D86-86A4-BC36B5F2A45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E9ACB6F-87C6-47F1-8575-B86635D3679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A4C3A1F-4FF2-4C94-9FFF-2AF57C15BA1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B1724A0-8DE4-4B08-ADFB-7C162406718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609B957-2DBE-4371-8AF6-53D3D61757F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AFC8339-6A5A-4193-916C-35E312F4032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DF378B8-F8F8-47AB-A537-551CA2696C8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03D9F52-8043-47CB-BEEE-32C6B856382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anipulating Routing Upd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8183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figuring and Verifying Route Redistrib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93760" y="2141640"/>
            <a:ext cx="6756480" cy="3286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edistributing into IS-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2268360"/>
            <a:ext cx="7998120" cy="2989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efore Redistribu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66920" y="2365200"/>
            <a:ext cx="6408720" cy="2938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Before Redistribution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2293920"/>
            <a:ext cx="7313760" cy="3247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Configuring Redistribution at Router B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41360" y="2201760"/>
            <a:ext cx="6408720" cy="3487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Routing Tables After Route Redistribu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70080" y="1722600"/>
            <a:ext cx="6481800" cy="42685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Routing Tables After Summarizing Routes and Redistribution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5200" y="1636560"/>
            <a:ext cx="73184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3000"/>
          </a:bodyPr>
          <a:p>
            <a:pPr lvl="1" marL="318960" indent="-212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veral steps must be followed for accurate IP route redistribution to occu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212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IP routing protocols can be redistributed into RI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212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IP routing protocols are redistributed into OSPF, additional commands are requi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212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IP routing protocols are redistributed into EIGRP, a seed metric is requi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212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routing protocols are usually redistributed into IS-IS as Level 2 rou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212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are several techniques for verifying IP route redistribu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4840" y="2057400"/>
            <a:ext cx="7010640" cy="335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edistribution Supports All Protoc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30400" y="2127240"/>
            <a:ext cx="687060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)#router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-router)#redistribute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bgp        Border Gateway Protocol (BG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onnected  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igrp      Enhanced Interior Gateway Routing Protocol (EIGR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sis       ISO IS-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so-igrp   IGRP for OSI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     Metric for redistribu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obile     Mobile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dr        On Demand stub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       Open Shortest Path First (OSP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ip        Routing Information Protocol (R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 Route map 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tatic     Static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c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2133720"/>
            <a:ext cx="7010640" cy="25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Redistribution into RI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92240" y="2133720"/>
            <a:ext cx="662940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outer r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edistribute ospf ?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&lt;1-65535&gt;  Process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edistribute ospf 1 ?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atch      Redistribution of OSPF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     Metric for redistribu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 Route map 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c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4795920"/>
            <a:ext cx="34671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metric is infi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90480" y="2030400"/>
            <a:ext cx="7705800" cy="3755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edistributing into RI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600200"/>
            <a:ext cx="8382240" cy="2971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Redistribution into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84000" y="4648320"/>
            <a:ext cx="6568920" cy="1557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metric is 2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metric type is 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bnets do not redistribute by defau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153280" cy="29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outer ospf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edistribute eigrp ?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1-65535&gt;  Autonomous system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edistribute eigrp 100 ?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         Metric for redistribu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-type    OSPF/IS-IS exterior metric type for redistribu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     Route map 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bnets        Consider subnets for redistribution into OS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ag            Set tag for routes redistributed into OS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c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09480" y="1846440"/>
            <a:ext cx="7851960" cy="38322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edistributing into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2057400"/>
            <a:ext cx="701028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Redistribution into E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057400"/>
            <a:ext cx="662940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outer eigrp 10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edistribute ospf ?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1-65535&gt;  Process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edistribute ospf 1 ?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atch        Redistribution of OSPF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       Metric for redistribu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   Route map 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c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55800" y="4923000"/>
            <a:ext cx="363240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1250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metric is infi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04920" y="1295280"/>
            <a:ext cx="6719760" cy="3275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81080" y="4640400"/>
            <a:ext cx="5486400" cy="18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ndwidth in kilobytes = 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lay in tens of microseconds 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liability = 255 (maxim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ad = 1 (minim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TU = 150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edistributing into E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2133720"/>
            <a:ext cx="8076960" cy="259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Redistribution into IS-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133720"/>
            <a:ext cx="777240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outer isi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t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edistribute eigrp 100 ?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evel-1      IS-IS level-1 routes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evel-1-2    IS-IS level-1 and level-2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evel-2      IS-IS level-2 routes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etric       Metric for redistributed rout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metric-type  OSPF/IS-IS exterior metric type for redistributed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-map    Route map refer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utput Omi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4280" y="4821120"/>
            <a:ext cx="83055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s are introduced as Level 2 with a metric of 0 by defa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9:24:09Z</dcterms:modified>
  <cp:revision>185</cp:revision>
  <dc:subject>Module 06 Lesson 02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