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E80F090-2BD4-420A-B5F1-CA8DC042DC9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954E969-0BE7-4E31-ACFF-5D11B629DE6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D82E672-0208-4F2A-B38A-2AB91DA8F49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D629CCD-8C6D-46C8-A750-C61CD1302FB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A2B1037-3487-4277-8171-17C8CE72A00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8311EE5-D4AC-43A2-90A9-0903BC31E77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F5C975F-93C4-4EC8-A4D2-30668835DB1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A7FECA5-F035-4FDE-BE62-01C257EC241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94D1A8C-8CEC-4306-9374-11CDC4F5E93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Implementing BG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Explaining BGP Concepts and Termin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Characteristic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lvl="1" marL="29160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GP is most appropriate when at least one of the following conditions exis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 AS allows packets to transit through it to reach other autonomous systems (for example, it is a service provider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n AS has multiple connections to other autonomous syste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ing policy and route selection for traffic entering and leaving the AS must be manipulat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GP is not always appropriate. You do not have to use BGP if you have one of the following condition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mited understanding of route filtering and BGP path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lection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single connection to the Internet or another 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ack of memory or processor power to handle constan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pdates on BGP route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Characteristics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GP is a path-vector protocol with the following enhancements over distance vector protocol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iable updates: runs on top of TCP (port 179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remental, triggered updates on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iodic keepalive messages to verify TCP conne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ch metrics (called path vectors or attribut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igned to scale to huge internetworks (for example, the Interne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BGP Databa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ighbor ta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G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GP table (forwarding databa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all networks learned from each neighb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n contain multiple paths to destination networ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ains BGP attributes for each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 routing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est paths to destinat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Message Ty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2000"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GP defines the following message typ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ludes hold time and BGP router 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epal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formation for one path onl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could be to multiple network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ludes path attributes and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error is det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connection closed after message is s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your network is multihomed—has more than one connection to the Internet—then using BGP to connect to your ISPs may be appropri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homing options include having each ISP pass thes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ly a default ro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default route and provider-owned specific ro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the external routing protocol used between autonomous systems. Forwarding is based on policy and not on best pa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routers exchange network reachability information called path vectors, made up of path attributes. The path-vector information includes a list of the full path of BGP AS numbers necessary to reach a destination net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router running BGP keeps its own tables to store BGP information that it receives from and sends to other routers, including a neighbor table, a BGP table (also called a forwarding database or topology database), and an IP routing t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four BGP message types: open, keepalive, update, and notific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87320" y="1487520"/>
            <a:ext cx="7518600" cy="482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55560" y="225360"/>
            <a:ext cx="8145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BGP to Connect to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What Is Multihom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necting to two or more ISPs to increase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iability: If one ISP or connection fails, there is still Internet ac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formance: Path selection to common Internet destinations is bet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3160" y="1662120"/>
            <a:ext cx="7512120" cy="4219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Default Routes from All Provid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9600" y="1371600"/>
            <a:ext cx="8524800" cy="4865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efault Routes from All Providers and Partial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27200" y="1601640"/>
            <a:ext cx="7688160" cy="4391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Full Routes from All Provid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84320" y="1300320"/>
            <a:ext cx="6975360" cy="3195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Autonomous System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1560" y="4484160"/>
            <a:ext cx="7940880" cy="202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AS is a collection of networks under a single technical administ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GPs operate within an 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is used between autonomous sys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change of loop-free routing information is guarante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20840" y="1601640"/>
            <a:ext cx="6475320" cy="21034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Path-Vector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560" y="3885840"/>
            <a:ext cx="7940880" cy="2514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GPs announce networks and describe the metric to reach those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announces paths and the networks that are reachable at the end of the path. BGP describes the path by using attributes, which are similar to metric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allows administrators to define policies or rules for how data will flow through the autonomous sys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16120" y="1868400"/>
            <a:ext cx="7486560" cy="24940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Routing Polic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1560" y="4919400"/>
            <a:ext cx="7940880" cy="795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GP can support any policy conforming to the hop-by-hop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S-by-AS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ting paradig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49:15Z</dcterms:modified>
  <cp:revision>182</cp:revision>
  <dc:subject>Module 07 Lesson 01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