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1178-FDBD-4063-836B-98D0F686900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31E1-D4F1-4BDD-86A6-7E41C1572E3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7FC1-2A80-411A-8F4E-8F971864908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4440" cy="32878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58960" y="3997080"/>
            <a:ext cx="5160960" cy="43066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tarts by building a table of adjacent neighbors. Route exchanges with these neighbors result in an EIGRP topology table. The best EIGRP routes are moved into the IP routing tab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figuration commands for basic EIGRP include thes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eigr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 auto-summar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disable automatic summarization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summary-address eigr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 to create a summary addres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ari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configure unequal-cost load balanc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odule 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EIGRP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mode eigr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p authentication key-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face commands. The key chain must also be configured, starting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ch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eatures such as stub routing, active process enhancement, and graceful shutdown help improve network stability and perform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</dc:description>
  <dc:language>en-US</dc:language>
  <cp:lastModifiedBy>whccie</cp:lastModifiedBy>
  <dcterms:modified xsi:type="dcterms:W3CDTF">2007-01-17T06:50:15Z</dcterms:modified>
  <cp:revision>47</cp:revision>
  <dc:subject/>
  <dc:title>ILT-MA-ModuleSumm-v3.1.ppt</dc:title>
</cp:coreProperties>
</file>