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B6BC29B-EDF8-4CEB-B626-56BC774B4C8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D24AC97-228B-4E95-8061-32E3A377EAC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4E24F1D-90FB-413D-8865-368E2CEE6DE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310C44E-0693-4DDB-B366-765F0135E58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6555785-A16E-4E6F-BAF9-11027E45ECE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C9E7520-67C5-4EFA-B627-314892D2BE9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17AD1DA-A0CC-4193-9E50-96AFB1EEAEE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01FB100-3D25-49BC-A549-2897F2D3BA9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D1699D4-282D-488A-AB92-D2EA485E40B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F3EDC0C-95FE-4BEE-84C9-19F19B8FBE7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7555212-FE9F-47A1-B467-9FD023F166D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F672A15-C9F7-4FBA-B8B5-28BDB229FB4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Link-State Advertis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95520" y="1371600"/>
            <a:ext cx="4152960" cy="3060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1: Router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200" y="4495680"/>
            <a:ext cx="7828200" cy="1981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ne router LSA (type 1) for every router in an ar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cludes list of directly attached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ach link identified by IP prefix assigned to link and link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dentified by the router ID of the originating ro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loods within its area only; does not cross AB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00280" y="1362240"/>
            <a:ext cx="5743440" cy="3060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2: Network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4495680"/>
            <a:ext cx="7940880" cy="190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ne network (type 2) LSA for each transit broadcast or NBMA network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 are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cludes list of attached routers on the transit lin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cludes subnet mask of lin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vertised by the DR of the broadcast 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loods within its area only; does not cross AB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12920" y="1501920"/>
            <a:ext cx="6518160" cy="2817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3: Summary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4406400"/>
            <a:ext cx="7940880" cy="2057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lvl="1" marL="33588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3 LSAs are used to flood network information to areas outside the originating area (interare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7176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s network number and mask of lin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vertised by the ABR of originating are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generated by subsequent ABRs to flood throughout th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-223920">
              <a:lnSpc>
                <a:spcPct val="8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default, routes are not summarized, and type 3 LSA is advertised for every sub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84320" y="1514520"/>
            <a:ext cx="8773920" cy="2792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4: Summary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435240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mmary (type 4) LSAs are used to advertise an ASBR to all other areas in th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y are generated by the ABR of the originating are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y are regenerated by all subsequent ABRs to flood throughout th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4 LSAs contain the router ID of the ASB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1200" y="1521000"/>
            <a:ext cx="7530840" cy="2774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 5: External LS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8534160" cy="2057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xternal (type 5) LSAs are used to advertise networks from other autonomous system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5 LSAs are advertised and owned by the originating ASB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5 LSAs flood throughout the entir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 advertising router ID (ASBR) is unchanged throughout the autonomous system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ype 4 LSA is needed to find the ASB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7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default, routes are not summariz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rpreting the OSPF Databas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360" y="1955880"/>
            <a:ext cx="8165880" cy="3860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5040" y="1987560"/>
            <a:ext cx="805176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show ip ospf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 Router with ID (10.0.0.11) (Process ID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Link States (Are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ink ID         ADV Router      Age         Seq#       Checksum Link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11       10.0.0.11       548         0x80000002 0x00401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12       10.0.0.12       549         0x80000004 0x003A1B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0.100.100.100 100.100.100.100 548         0x800002D7 0x00EEA9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 Link States (Are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ink ID         ADV Router      Age         Seq#       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31.1.3      100.100.100.100 549         0x80000001 0x004EC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mmary Net Link States (Area 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ink ID         ADV Router      Age         Seq#       Check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.0.0        10.0.0.11       654         0x80000001 0x00FB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1.0.0        10.0.0.12       601         0x80000001 0x00F5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rpreting the Routing Table: Types of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28560" y="1562040"/>
          <a:ext cx="7836120" cy="4419720"/>
        </p:xfrm>
        <a:graphic>
          <a:graphicData uri="http://schemas.openxmlformats.org/drawingml/2006/table">
            <a:tbl>
              <a:tblPr/>
              <a:tblGrid>
                <a:gridCol w="736560"/>
                <a:gridCol w="2971800"/>
                <a:gridCol w="4127760"/>
              </a:tblGrid>
              <a:tr h="469800">
                <a:tc gridSpan="2"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outer Designat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scri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1168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SPF intra-area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uter LSA) and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 LS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s from within the area of the rou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ertised by way of router LSAs and network LS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 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SPF interarea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summary LSA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s from outside the area of the router, but within the OSPF autonomous syst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ertised by way of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mmary LS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 E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ype 1 external rou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82440" rIns="82440" tIns="36720" bIns="36720" anchor="ctr">
                      <a:noAutofit/>
                    </a:bodyPr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s outside of the autonomous system of the rou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343080" indent="-228600">
                        <a:lnSpc>
                          <a:spcPct val="90000"/>
                        </a:lnSpc>
                        <a:spcBef>
                          <a:spcPts val="737"/>
                        </a:spcBef>
                        <a:buClr>
                          <a:srgbClr val="306774"/>
                        </a:buClr>
                        <a:buFont typeface="Arial"/>
                        <a:buChar char="•"/>
                        <a:tabLst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vertised by way of external LS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 E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37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ype 2 external rout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2880" y="1771560"/>
            <a:ext cx="7969320" cy="40179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alculating Costs for E1 and E2 Rou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9480" y="1879560"/>
            <a:ext cx="7925040" cy="4076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how ip rout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05120"/>
            <a:ext cx="7446960" cy="39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RouterB</a:t>
            </a:r>
            <a:r>
              <a:rPr b="1" lang="en-US" sz="1200" spc="-1" strike="noStrike">
                <a:solidFill>
                  <a:srgbClr val="b92b38"/>
                </a:solidFill>
                <a:latin typeface="Courier New"/>
                <a:ea typeface="宋体"/>
              </a:rPr>
              <a:t>&gt;show ip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odes: C - connected, S - static, R - RIP, M - mobile, B - BG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D - EIGRP, EX - EIGRP external, O - OSPF, IA - OSPF inter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N1 - OSPF NSSA external type 1, N2 - OSPF NSSA external typ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E1 - OSPF external type 1, E2 - OSPF external typ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 - IS-IS, su - IS-IS summary, L1 - IS-IS level-1, L2 - IS-IS level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ia - IS-IS inter area, * - candidate default, U - per-user static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- ODR, P - periodic downloaded static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not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172.31.0.0/24 is subnetted, 2 sub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2.0 [110/1563] via 10.1.1.1, 00:12:35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72.31.1.0 [110/782] via 10.1.1.1, 00:12:35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6 subnets, 2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200.200.13/32 is directly connected, Loopback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3.0/24 is directly connected, Serial0/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2.0/24 [110/782] via 10.1.3.4, 00:12:35, Serial0/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0.1.1.0/24 is directly connected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      10.1.0.0/24 [110/782] via 10.1.1.1, 00:12:37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宋体"/>
              </a:rPr>
              <a:t>O E2    10.254.0.0/24 [110/50] via 10.1.1.1, 00:12:37, FastEthernet0/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LSDB Overload Protec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895480"/>
            <a:ext cx="7940520" cy="1633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cessive LSAs generated by other routers can drain local router resour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feature can limit the processing of non-self-generated LSAs for a defined OSPF proces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0720" y="1773360"/>
            <a:ext cx="8159760" cy="91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x-lsa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aximum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hreshold-percentag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warning-only] [ignore-tim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inut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ignore-count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ount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reset-tim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minute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3360" y="1405080"/>
            <a:ext cx="316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71680" y="2063880"/>
            <a:ext cx="6194520" cy="37494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ssues with Maintaining a Large OSPF Net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82720" y="3213000"/>
            <a:ext cx="79311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cos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-co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560" y="3786120"/>
            <a:ext cx="7925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verrides the default cost calculation. Values from 1 to 65535 can be def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hanging the Cost Metr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7920" y="4919760"/>
            <a:ext cx="79311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-cost reference-bandwidth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ef-b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560" y="54100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ts the reference bandwidth to values other than 100 Mbps (legal values range from 1 to 4,294,967 in megabits per seco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560" y="1433520"/>
            <a:ext cx="8305920" cy="14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jkstra’s algorithm determines the best path by adding all link costs along a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st, or metric, is an indication of the overhead to send packets over an interface. Default = (100 Mbps) / (bandwidth in Mb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1800" y="2847960"/>
            <a:ext cx="288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A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27000" y="4495680"/>
            <a:ext cx="4025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A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4000"/>
          </a:bodyPr>
          <a:p>
            <a:pPr lvl="1" marL="288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four OSPF router types: internal routers, backbone routers, ABRs, and ASB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virtual link allows discontiguous area 0’ to be connected, or a disconnected area to be connected to area 0, via a transit area. Virtual links should be used only for temporary connections or backup after a failure, not as a primary backbone design featu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8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11 OSPF LSA types. The first five are the most commonly us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1 ro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2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3 and 4 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6000" indent="-19188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ype 5 exter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the IP routing table, OSPF routes are classified as either intra-area, interarea, or external; external routes are subdivided into E1 and E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LSDB overload protection limits the processing of non-self-generated LS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SPF cost defaults to (100 Mbps) / (bandwidth in megabits per second). The cost can be changed on a per-interface basis, and the reference bandwidth (100 Mbps) can also be changed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44560" y="1558800"/>
            <a:ext cx="5653080" cy="3597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olution: OSPF Hierarchical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5334120"/>
            <a:ext cx="7940520" cy="110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sists of areas and autonomous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nimizes routing update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51000" y="1959120"/>
            <a:ext cx="6640560" cy="37987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ypes of OSPF Rout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4648320"/>
            <a:ext cx="7848360" cy="15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rtual links are used to connect a discontiguous area to area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logical connection is built between router A and route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irtual links are recommended for backup or temporary conn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efining Virtual Link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57400" y="1730520"/>
            <a:ext cx="6524640" cy="26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09480" y="4311720"/>
            <a:ext cx="824256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Virtual Lin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3360" y="1944720"/>
            <a:ext cx="8235720" cy="161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virtual-link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-id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authentication [message-digest | null]] [hello-interval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retransmit-interval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transmit-delay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dead-interval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 [[authentication-key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 | [message-digest-key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 md5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ey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9360" y="1600200"/>
            <a:ext cx="318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2760" y="3594240"/>
            <a:ext cx="83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s a virtual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03720" y="4559400"/>
            <a:ext cx="1333440" cy="19044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6880" y="4356000"/>
            <a:ext cx="807732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moterouter#sh ip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Process "ospf 1000" with ID 10.2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only single TOS(TOS0)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opaque L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Link-local Signaling (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area transit cap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t is an area border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560" y="1720800"/>
            <a:ext cx="7786800" cy="4329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Virtual Link Configuration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2095560"/>
            <a:ext cx="8165880" cy="3187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3200" y="2127240"/>
            <a:ext cx="805176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 ip ospf virtual-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rtual Link OSPF_VL0 to router 10.2.2.2 i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un as demand circ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oNotAge LSA allow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it area 1, via interface Serial0/0/1, Cost of using 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mit Delay is 1 sec, State POINT_TO_POI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imer intervals configured, Hello 10, Dead 40, Wait 40, Retransmi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 due in 00:00: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jacency State FULL (Hello suppress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dex 1/2, retransmission queue length 0, number of retransmiss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irst 0x0(0)/0x0(0) Next 0x0(0)/0x0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retransmission scan length is 1, maximum i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retransmission scan time is 0 msec, maximum is 0 m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how ip ospf virtual-links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739880" y="1460520"/>
          <a:ext cx="5753160" cy="4905360"/>
        </p:xfrm>
        <a:graphic>
          <a:graphicData uri="http://schemas.openxmlformats.org/drawingml/2006/table">
            <a:tbl>
              <a:tblPr/>
              <a:tblGrid>
                <a:gridCol w="1739880"/>
                <a:gridCol w="4013280"/>
              </a:tblGrid>
              <a:tr h="5461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LSA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5335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outer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work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ummary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nomous system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ternal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31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lticast OSPF L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61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fined for not-so-stubby are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xternal attributes LSA for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order Gateway Protocol (BG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, 10,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aque L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SA Ty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4:43Z</dcterms:modified>
  <cp:revision>192</cp:revision>
  <dc:subject>Module 04 Lesson 05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