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1"/>
          </p:nvPr>
        </p:nvSpPr>
        <p:spPr>
          <a:xfrm>
            <a:off x="396504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1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2"/>
          </p:nvPr>
        </p:nvSpPr>
        <p:spPr>
          <a:xfrm>
            <a:off x="-36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1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3"/>
          </p:nvPr>
        </p:nvSpPr>
        <p:spPr>
          <a:xfrm>
            <a:off x="396504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1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A8EA2E98-2A9E-4DFA-9A1B-8AB4565A2382}" type="slidenum">
              <a:rPr b="1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396504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B57BFA70-7D90-44F2-A030-4D758DA7CC66}" type="slidenum">
              <a:rPr b="1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-36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96504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55560" y="350244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2464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4044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532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5556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4044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532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55200" y="225000"/>
            <a:ext cx="814572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225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2464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55560" y="350244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2464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4044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532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5556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4044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532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55200" y="225000"/>
            <a:ext cx="814572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225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2464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1228680"/>
          </a:xfrm>
          <a:prstGeom prst="rect">
            <a:avLst/>
          </a:prstGeom>
          <a:solidFill>
            <a:srgbClr val="3067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1049"/>
              </a:spcBef>
              <a:buClr>
                <a:srgbClr val="306774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228600">
              <a:lnSpc>
                <a:spcPct val="95000"/>
              </a:lnSpc>
              <a:spcBef>
                <a:spcPts val="1049"/>
              </a:spcBef>
              <a:buClr>
                <a:srgbClr val="306774"/>
              </a:buClr>
              <a:buFont typeface="Arial"/>
              <a:buChar char="–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228600">
              <a:lnSpc>
                <a:spcPct val="95000"/>
              </a:lnSpc>
              <a:spcBef>
                <a:spcPts val="1049"/>
              </a:spcBef>
              <a:buClr>
                <a:srgbClr val="306774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lnSpc>
                <a:spcPct val="95000"/>
              </a:lnSpc>
              <a:spcBef>
                <a:spcPts val="1049"/>
              </a:spcBef>
              <a:buClr>
                <a:srgbClr val="306774"/>
              </a:buClr>
              <a:buFont typeface="Arial"/>
              <a:buChar char="–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lnSpc>
                <a:spcPct val="95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lnSpc>
                <a:spcPct val="95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 rot="10800000">
            <a:off x="8756640" y="-9720"/>
            <a:ext cx="387360" cy="377640"/>
          </a:xfrm>
          <a:prstGeom prst="rtTriangl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8061480" y="6377040"/>
            <a:ext cx="1082520" cy="480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454120"/>
            <a:ext cx="9144000" cy="4403880"/>
          </a:xfrm>
          <a:prstGeom prst="rect">
            <a:avLst/>
          </a:prstGeom>
          <a:solidFill>
            <a:srgbClr val="3067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55200" y="2951280"/>
            <a:ext cx="779796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rcRect l="0" t="13669" r="0" b="64133"/>
          <a:stretch/>
        </p:blipFill>
        <p:spPr>
          <a:xfrm>
            <a:off x="0" y="0"/>
            <a:ext cx="9140760" cy="25369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rcRect l="0" t="13669" r="0" b="64110"/>
          <a:stretch/>
        </p:blipFill>
        <p:spPr>
          <a:xfrm>
            <a:off x="0" y="0"/>
            <a:ext cx="9140760" cy="254016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342720" algn="ctr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228600" algn="ctr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228600" algn="ctr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 algn="ctr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–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655560" y="3606840"/>
            <a:ext cx="78026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1225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Describing Network Requirement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655200" y="2951280"/>
            <a:ext cx="779796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Network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Cisco SONA Framework Layer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538280" y="1332000"/>
            <a:ext cx="6162840" cy="51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Intelligent Information Network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IIN integrates networked resources and information asset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IIN extends intelligence across multiple products and infrastructure layer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IIN actively participates in the delivery of services and application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hree phases in building an IIN are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Integrated transpor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Integrated servi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Integrated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22360" y="1827360"/>
            <a:ext cx="8250120" cy="348120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Routing Protocol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sl-SI" sz="3000" spc="-1" strike="noStrike">
                <a:solidFill>
                  <a:srgbClr val="ffffff"/>
                </a:solidFill>
                <a:latin typeface="Arial"/>
              </a:rPr>
              <a:t>Routing Protocol 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Comparison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1371600" y="1981080"/>
          <a:ext cx="6305400" cy="3902040"/>
        </p:xfrm>
        <a:graphic>
          <a:graphicData uri="http://schemas.openxmlformats.org/drawingml/2006/table">
            <a:tbl>
              <a:tblPr/>
              <a:tblGrid>
                <a:gridCol w="3257640"/>
                <a:gridCol w="1066680"/>
                <a:gridCol w="838080"/>
                <a:gridCol w="1143000"/>
              </a:tblGrid>
              <a:tr h="645840">
                <a:tc>
                  <a:txBody>
                    <a:bodyPr lIns="82080" rIns="82080" tIns="41040" bIns="41040" anchor="t">
                      <a:noAutofit/>
                    </a:bodyPr>
                    <a:p>
                      <a:pPr algn="r">
                        <a:lnSpc>
                          <a:spcPct val="9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sl-SI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amete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080" marR="820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06774"/>
                    </a:solidFill>
                  </a:tcPr>
                </a:tc>
                <a:tc>
                  <a:txBody>
                    <a:bodyPr lIns="82080" rIns="82080" tIns="41040" bIns="4104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EIGR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080" marR="820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06774"/>
                    </a:solidFill>
                  </a:tcPr>
                </a:tc>
                <a:tc>
                  <a:txBody>
                    <a:bodyPr lIns="82080" rIns="82080" tIns="41040" bIns="4104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OSP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080" marR="820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06774"/>
                    </a:solidFill>
                  </a:tcPr>
                </a:tc>
                <a:tc>
                  <a:txBody>
                    <a:bodyPr lIns="82080" rIns="82080" tIns="41040" bIns="4104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IS-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080" marR="820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06774"/>
                    </a:solidFill>
                  </a:tcPr>
                </a:tc>
              </a:tr>
              <a:tr h="648000">
                <a:tc>
                  <a:txBody>
                    <a:bodyPr lIns="82080" rIns="82080" tIns="41040" bIns="410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612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Size of Network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(Small-Medium-Large-Very Larg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080" marR="820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06774"/>
                    </a:solidFill>
                  </a:tcPr>
                </a:tc>
                <a:tc>
                  <a:txBody>
                    <a:bodyPr lIns="82080" rIns="82080" tIns="41040" bIns="4104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612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Lar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5000"/>
                        </a:lnSpc>
                        <a:spcBef>
                          <a:spcPts val="612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080" marR="820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080" rIns="82080" tIns="41040" bIns="4104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612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Lar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5000"/>
                        </a:lnSpc>
                        <a:spcBef>
                          <a:spcPts val="612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080" marR="820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080" rIns="82080" tIns="41040" bIns="4104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612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Very Lar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5000"/>
                        </a:lnSpc>
                        <a:spcBef>
                          <a:spcPts val="612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080" marR="820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8000">
                <a:tc>
                  <a:txBody>
                    <a:bodyPr lIns="82080" rIns="82080" tIns="41040" bIns="410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612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Speed of Convergence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(Very High-High-Medium-Low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080" marR="820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06774"/>
                    </a:solidFill>
                  </a:tcPr>
                </a:tc>
                <a:tc>
                  <a:txBody>
                    <a:bodyPr lIns="82080" rIns="82080" tIns="41040" bIns="4104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612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Very Hig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5000"/>
                        </a:lnSpc>
                        <a:spcBef>
                          <a:spcPts val="612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080" marR="820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080" rIns="82080" tIns="41040" bIns="4104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612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Hig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5000"/>
                        </a:lnSpc>
                        <a:spcBef>
                          <a:spcPts val="612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080" marR="820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080" rIns="82080" tIns="41040" bIns="4104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612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Hig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5000"/>
                        </a:lnSpc>
                        <a:spcBef>
                          <a:spcPts val="612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080" marR="820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9440">
                <a:tc>
                  <a:txBody>
                    <a:bodyPr lIns="82080" rIns="82080" tIns="41040" bIns="410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612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Use of VLSM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(Yes-No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080" marR="820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06774"/>
                    </a:solidFill>
                  </a:tcPr>
                </a:tc>
                <a:tc>
                  <a:txBody>
                    <a:bodyPr lIns="82080" rIns="82080" tIns="41040" bIns="4104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612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Y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5000"/>
                        </a:lnSpc>
                        <a:spcBef>
                          <a:spcPts val="612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080" marR="820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080" rIns="82080" tIns="41040" bIns="4104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612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Y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5000"/>
                        </a:lnSpc>
                        <a:spcBef>
                          <a:spcPts val="612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080" marR="820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080" rIns="82080" tIns="41040" bIns="4104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612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Y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5000"/>
                        </a:lnSpc>
                        <a:spcBef>
                          <a:spcPts val="612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080" marR="820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8000">
                <a:tc>
                  <a:txBody>
                    <a:bodyPr lIns="82080" rIns="82080" tIns="41040" bIns="410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612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Mixed-Vendor Devices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(Yes-No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080" marR="820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06774"/>
                    </a:solidFill>
                  </a:tcPr>
                </a:tc>
                <a:tc>
                  <a:txBody>
                    <a:bodyPr lIns="82080" rIns="82080" tIns="41040" bIns="4104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612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5000"/>
                        </a:lnSpc>
                        <a:spcBef>
                          <a:spcPts val="612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080" marR="820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080" rIns="82080" tIns="41040" bIns="4104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612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Y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5000"/>
                        </a:lnSpc>
                        <a:spcBef>
                          <a:spcPts val="612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080" marR="820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080" rIns="82080" tIns="41040" bIns="4104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612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Y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5000"/>
                        </a:lnSpc>
                        <a:spcBef>
                          <a:spcPts val="612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080" marR="820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62760">
                <a:tc>
                  <a:txBody>
                    <a:bodyPr lIns="82080" rIns="82080" tIns="41040" bIns="410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612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Network Support Staff Knowledge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(Good-Poor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080" marR="820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06774"/>
                    </a:solidFill>
                  </a:tcPr>
                </a:tc>
                <a:tc>
                  <a:txBody>
                    <a:bodyPr lIns="82080" rIns="82080" tIns="41040" bIns="4104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612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Goo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5000"/>
                        </a:lnSpc>
                        <a:spcBef>
                          <a:spcPts val="612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080" marR="820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080" rIns="82080" tIns="41040" bIns="4104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612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Goo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5000"/>
                        </a:lnSpc>
                        <a:spcBef>
                          <a:spcPts val="612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080" marR="820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080" rIns="82080" tIns="41040" bIns="4104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612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Fai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5000"/>
                        </a:lnSpc>
                        <a:spcBef>
                          <a:spcPts val="612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080" marR="820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Summary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lvl="1" marL="343080" indent="-228600">
              <a:lnSpc>
                <a:spcPct val="8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Cisco Enterprise Architectures with a hierarchical network model facilitate the deployment of converged network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8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he Cisco Enterprise Composite Network Model defines three functional areas: Enterprise Campus, Enterprise Edge, and Service Provider Edg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8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Converged networks with their traffic mix have higher demands on the network and its resourse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8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he SONA framework guides the evolution of the enterprise network toward the IIN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8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he network models can be important tools for selecting and implementing an advanced IP routing protocol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2476440" y="2076480"/>
            <a:ext cx="4381560" cy="259092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0" y="0"/>
            <a:ext cx="9144000" cy="155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Cisco Enterprise Architecture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1066680" y="1471680"/>
          <a:ext cx="7161480" cy="4836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471680"/>
                    <a:ext cx="7161480" cy="483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122480" y="2162160"/>
            <a:ext cx="6999120" cy="344484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Cisco Hierarchical Network Mode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30200" y="1506600"/>
            <a:ext cx="8237520" cy="473220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Hierarchical Campus Mode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955800" y="1611360"/>
            <a:ext cx="7230960" cy="363384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Hierarchical Network Model WAN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590920" y="5181480"/>
            <a:ext cx="26668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 anchorCtr="1">
            <a:noAutofit/>
          </a:bodyPr>
          <a:p>
            <a:pPr lvl="1" marL="34308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782640" y="2286000"/>
            <a:ext cx="7578720" cy="325584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Enterprise Composite 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Network Model</a:t>
            </a: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Functional Area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96920" y="1420920"/>
            <a:ext cx="8750160" cy="496872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Enterprise Composite Network Mode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Network Traffic Mix and Requirement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89000"/>
          </a:bodyPr>
          <a:p>
            <a:pPr lvl="1" marL="305280" indent="-2034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Converged network traffic mix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10200" indent="-2034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Voice and video traff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10200" indent="-2034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Voice applications traff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10200" indent="-2034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Mission-critical applications traff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10200" indent="-2034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ransactional traff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10200" indent="-2034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Routing update traff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10200" indent="-2034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Network management traff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05280" indent="-2034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Key requirement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10200" indent="-2034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Performance (bandwidth, delay, jitter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10200" indent="-2034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ecurity (access, transmission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Cisco SONA Framework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Cisco Service-Oriented Network Architecture (SONA) is an architectural framework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Cisco SONA brings several advantages to enterprise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Outlines how enterprises can evolve toward the Intelligent Information Network (IIN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Illustrates how to build integrated systems across a fully converged intelligent networ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Improves flexibility and increases efficienc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22860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Optimizes applications, processes, and resour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2T15:29:42Z</dcterms:created>
  <dc:creator>CLS Production and Editing QA Services</dc:creator>
  <dc:description>04/04, v3.1, Libby Goga
applied new ILSG learning design
04/24/04, v3.1, Erin Stanley
prepared for production
Updated; dmachado:  01.04.05</dc:description>
  <dc:language>en-US</dc:language>
  <cp:lastModifiedBy>whccie</cp:lastModifiedBy>
  <dcterms:modified xsi:type="dcterms:W3CDTF">2007-01-17T09:21:59Z</dcterms:modified>
  <cp:revision>140</cp:revision>
  <dc:subject/>
  <dc:title>ILT-MA-Lesson-v3.1.ppt</dc:title>
</cp:coreProperties>
</file>