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8596440"/>
            <a:ext cx="44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0" y="8774280"/>
            <a:ext cx="260964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50040" bIns="50040" anchor="t">
            <a:spAutoFit/>
          </a:bodyPr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79600"/>
                <a:tab algn="l" pos="4816440"/>
                <a:tab algn="l" pos="4876920"/>
                <a:tab algn="l" pos="5486400"/>
                <a:tab algn="l" pos="6095880"/>
                <a:tab algn="l" pos="6705720"/>
                <a:tab algn="l" pos="7315200"/>
                <a:tab algn="l" pos="7924680"/>
                <a:tab algn="l" pos="8534520"/>
                <a:tab algn="l" pos="9144000"/>
                <a:tab algn="l" pos="9753480"/>
                <a:tab algn="l" pos="103633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BSCI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8788320"/>
            <a:ext cx="662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Num" idx="1"/>
          </p:nvPr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zh-CN" sz="8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08807B4-C23B-4E64-AAA9-C634B2BA445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65080" y="244440"/>
            <a:ext cx="5315040" cy="39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403200" y="4371840"/>
            <a:ext cx="6099120" cy="424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60D1752-AF45-491A-AE89-AEF6DF61A2D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31320DB-DC35-4CA8-AC73-FD22D7058E90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D7750E42-045F-44EF-AB6B-DD7292C7242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F4CA62B-8847-436F-9F6B-7526D433E96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F8AD6130-0E5A-4607-A072-557C2AB819CB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FF097DE-7784-4CCB-913D-5EF643CC9FF4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5923BC06-9BEA-4918-9F92-815AA794C59A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1C2E522-BB94-4CF2-A3B7-43BFFFEF9C6E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2AE6BD2-FC23-46A0-991A-7BBAF7D9E586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6B73DE0C-F8DB-4B8B-9FB4-D654212C770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43CD2600-0A98-4BD3-A3E1-389888B1DB6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A7FEA54B-D3F5-4ED2-9FBD-C6DD46BC150C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602B66B-73E3-406C-A04F-082C82065FCF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04A97806-E201-4D59-8723-5087C5316272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906880" y="8667360"/>
            <a:ext cx="811080" cy="28908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B8DF875F-C15B-4790-A587-1256EFD00DB1}" type="slidenum">
              <a:rPr b="0" lang="zh-CN" sz="8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73320" y="571680"/>
            <a:ext cx="4451040" cy="3338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74800" y="4057200"/>
            <a:ext cx="52560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•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ct val="95000"/>
              </a:lnSpc>
              <a:spcBef>
                <a:spcPts val="1049"/>
              </a:spcBef>
              <a:buClr>
                <a:srgbClr val="306774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ct val="95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061480" y="6377040"/>
            <a:ext cx="1082520" cy="48096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454120"/>
            <a:ext cx="9144000" cy="44038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669" r="0" b="64133"/>
          <a:stretch/>
        </p:blipFill>
        <p:spPr>
          <a:xfrm>
            <a:off x="0" y="0"/>
            <a:ext cx="9140760" cy="2536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25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 algn="ctr">
              <a:lnSpc>
                <a:spcPct val="95000"/>
              </a:lnSpc>
              <a:spcBef>
                <a:spcPts val="876"/>
              </a:spcBef>
              <a:buClr>
                <a:srgbClr val="306774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2951280"/>
            <a:ext cx="7797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uilding Scalable Cisco Inter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9880" y="3832200"/>
            <a:ext cx="509976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urse Administration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0040" y="1270080"/>
            <a:ext cx="5734080" cy="5257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2: Tuning Basic Redistribution with Cisco IOS Too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82680" y="1311120"/>
            <a:ext cx="6737400" cy="5150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home BG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93760" y="1270080"/>
            <a:ext cx="6800760" cy="5226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6-2: Manipulating BGP Path Selection with Route Map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28920" y="1282680"/>
            <a:ext cx="6180120" cy="52340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7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Multicast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Address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5200" y="4544640"/>
            <a:ext cx="3978360" cy="13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28920" y="1407960"/>
            <a:ext cx="6389640" cy="284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2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Enabling IPv6 OSPF Rout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5560" y="454500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7800" y="1330200"/>
            <a:ext cx="6440760" cy="2925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8-3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Pv6 Tunne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560" y="4545000"/>
            <a:ext cx="3978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 fontScale="78000"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format for the IPv6 addresses used in this lab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1:0410:000x:z::/64 eui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 = Pod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1 for fa0/0 between R1 and 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43360" y="4573440"/>
            <a:ext cx="408924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2 for fa0/0 between R2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3 for s0/0/1 between R1 and 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4 for s0/0/0 between R3 and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 = A for tunnel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 IPv4 addresses remain in pl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476440" y="2076480"/>
            <a:ext cx="438156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5600" y="1322280"/>
            <a:ext cx="5713200" cy="518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0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Basic Configur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01640" y="1282680"/>
            <a:ext cx="6032520" cy="5259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2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and Tuning EIGR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6080" y="1752480"/>
            <a:ext cx="6634080" cy="429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Single-Area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2800" y="1263600"/>
            <a:ext cx="5661000" cy="5210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2: Configuring OSPF for Multiple Areas and Frame Relay Nonbroadca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6600" y="123840"/>
            <a:ext cx="86029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3: Configuring OSPF for Multiple Areas and Frame Relay Point-to-Multipoint and Point-to-Poin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2800" y="1263600"/>
            <a:ext cx="5661000" cy="52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287360"/>
            <a:ext cx="5594400" cy="5226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3-4: Tuning OSPF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09720" y="1289160"/>
            <a:ext cx="7331040" cy="51847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4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Integrated IS-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08200" y="1297080"/>
            <a:ext cx="5695920" cy="5232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Visual Objective for Lab 5-1: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Configuring Basic Redistribu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dc:language>en-US</dc:language>
  <cp:lastModifiedBy>whccie</cp:lastModifiedBy>
  <cp:lastPrinted>1999-01-27T00:54:54Z</cp:lastPrinted>
  <dcterms:modified xsi:type="dcterms:W3CDTF">2007-01-17T09:20:07Z</dcterms:modified>
  <cp:revision>184</cp:revision>
  <dc:subject>Lab 1.1A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