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189788" cy="9501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89200" cy="95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408720" y="8796240"/>
            <a:ext cx="460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8680" y="8978760"/>
            <a:ext cx="26859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51480" bIns="51480" anchor="t">
            <a:spAutoFit/>
          </a:bodyPr>
          <a:p>
            <a:pPr>
              <a:tabLst>
                <a:tab algn="l" pos="0"/>
                <a:tab algn="l" pos="2441520"/>
                <a:tab algn="l" pos="494028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41520"/>
                <a:tab algn="l" pos="494028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BSCI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7320" y="8993160"/>
            <a:ext cx="681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Num" idx="1"/>
          </p:nvPr>
        </p:nvSpPr>
        <p:spPr>
          <a:xfrm>
            <a:off x="6078240" y="8869320"/>
            <a:ext cx="834840" cy="295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CN" sz="8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62BCEB0-FBFC-4310-9045-72F5A302A046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Img"/>
          </p:nvPr>
        </p:nvSpPr>
        <p:spPr>
          <a:xfrm>
            <a:off x="906480" y="250920"/>
            <a:ext cx="5437080" cy="407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body"/>
          </p:nvPr>
        </p:nvSpPr>
        <p:spPr>
          <a:xfrm>
            <a:off x="414360" y="4473360"/>
            <a:ext cx="6276960" cy="43448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51480" bIns="514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6078240" y="8869320"/>
            <a:ext cx="834840" cy="295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176AED4-18E0-4BE6-8269-AF9CA4427173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070520" y="-1440"/>
            <a:ext cx="3120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-3240" y="-1440"/>
            <a:ext cx="3116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322280" y="58428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00000" y="4151160"/>
            <a:ext cx="5408640" cy="448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078240" y="8869320"/>
            <a:ext cx="834840" cy="295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AF4773A-6DAF-44B4-A570-F03B478206DE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22280" y="58428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00000" y="4151160"/>
            <a:ext cx="5408640" cy="448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6078240" y="8869320"/>
            <a:ext cx="834840" cy="295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FF81BC7-CE62-4832-9B2B-6EB765A723A4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322280" y="58428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00000" y="4151160"/>
            <a:ext cx="5408640" cy="448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286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8756640" y="-9720"/>
            <a:ext cx="387360" cy="3776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061480" y="6377040"/>
            <a:ext cx="1082520" cy="480960"/>
          </a:xfrm>
          <a:prstGeom prst="rect">
            <a:avLst/>
          </a:prstGeom>
          <a:ln w="0">
            <a:noFill/>
          </a:ln>
        </p:spPr>
      </p:pic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2454120"/>
            <a:ext cx="9144000" cy="44038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669" r="0" b="64133"/>
          <a:stretch/>
        </p:blipFill>
        <p:spPr>
          <a:xfrm>
            <a:off x="0" y="0"/>
            <a:ext cx="9140760" cy="2536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onfiguring OSP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55560" y="3606840"/>
            <a:ext cx="7802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OSPF Route Summariz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0520" y="225000"/>
            <a:ext cx="81421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Summa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9000"/>
          </a:bodyPr>
          <a:p>
            <a:pPr lvl="1" marL="339480" indent="-22608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oute summarization improves CPU utilization, reduces LSA flooding, and reduces routing table siz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22608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rea rang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ommand is used to summarize 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ABR.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ummary-addres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ommand is used to summarize at the ASB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22608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fault routes can be used in OSPF to prevent the need for a specific route to all destination networks. The benefits include a much smaller routing table and LSDB, with complete reachabilit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22608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SPF uses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fault-information origin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ommand to inject a default rou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476440" y="2076480"/>
            <a:ext cx="4381560" cy="25909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438200" y="1407960"/>
            <a:ext cx="6234120" cy="39880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Benefits of Route Summariz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000" y="5562360"/>
            <a:ext cx="8224920" cy="1066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4520" indent="-230040">
              <a:lnSpc>
                <a:spcPct val="8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34452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inimizes number of routing table entr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8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34452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ocalizes impact of a topology chan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8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34452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educes LSA type 3 and 5 flooding and saves CPU resour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239840" y="1623960"/>
            <a:ext cx="6664320" cy="36100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Using Route Summariz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5200" y="5300280"/>
            <a:ext cx="6891480" cy="1066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4520" indent="-23004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34452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terarea summary link carries mask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34452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ne or more entries can represent several subnet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28560" y="2496960"/>
            <a:ext cx="8159760" cy="641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area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area-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range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address mas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[advertise | not-advertise] [cost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co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]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4560" y="2152800"/>
            <a:ext cx="4302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Router(config-router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1680" y="333684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nsolidates interarea routes on an A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onfiguring Route Summariz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8560" y="4138560"/>
            <a:ext cx="815976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summary-address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ip-address mask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[not-advertise] [tag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ta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4560" y="3794040"/>
            <a:ext cx="4537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Router(config-router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8720" y="459756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nsolidates external routes, usually on an AS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03360" y="1741320"/>
            <a:ext cx="6146640" cy="39085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Route Summarization Configuration Example at AB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44400" y="2013120"/>
            <a:ext cx="7853400" cy="29080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Route Summarization Configuration Example at ASB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030320" y="2058840"/>
            <a:ext cx="6983280" cy="15098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Default Routes in OSPF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5560" y="4343040"/>
            <a:ext cx="8066160" cy="1676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4520" indent="-23004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34452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 default route is injected into OSPF as an external LSA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ype 5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34452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fault route distribution is not on by default; use th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fault-information origin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ommand under the OSPF routing proces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35040" y="3089160"/>
            <a:ext cx="8229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ormally, this command advertises a 0.0.0.0 default into the OSPF network only if the default route already exists in the routing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lways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keyword allows the 0.0.0.0 default to be advertised even when the default route does not exist in the routing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12720" y="1995480"/>
            <a:ext cx="7854840" cy="854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default-information originate [always]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[metric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metric-valu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] [metric-type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type-valu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] [route-map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map-na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]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8720" y="1650960"/>
            <a:ext cx="4302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宋体"/>
              </a:rPr>
              <a:t>Router(config-router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onfiguring OSPF Default Rout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43040" y="1712880"/>
            <a:ext cx="7657920" cy="44323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Default Route Configuration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Global Knowledge</dc:creator>
  <dc:description/>
  <dc:language>en-US</dc:language>
  <cp:lastModifiedBy>whccie</cp:lastModifiedBy>
  <cp:lastPrinted>1999-01-27T00:54:54Z</cp:lastPrinted>
  <dcterms:modified xsi:type="dcterms:W3CDTF">2007-01-17T07:45:46Z</dcterms:modified>
  <cp:revision>142</cp:revision>
  <dc:subject>Module 04 Lesson 06</dc:subject>
  <dc:title>BSCI v2.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