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E3DD3E6-0A80-430E-BCDA-E0FF9E0C0968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56040" y="-1440"/>
            <a:ext cx="30322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-3240" y="-1440"/>
            <a:ext cx="302904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87960" y="6634080"/>
            <a:ext cx="1164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700" spc="-1" strike="noStrike">
                <a:solidFill>
                  <a:srgbClr val="c0c0c0"/>
                </a:solidFill>
                <a:latin typeface="Arial"/>
                <a:ea typeface="宋体"/>
              </a:rPr>
              <a:t>BSCI v3.0—2-</a:t>
            </a:r>
            <a:fld id="{E88D9EDC-D6DD-4A40-B90D-7D5239CDD910}" type="slidenum">
              <a:rPr b="1" lang="en-US" sz="700" spc="-1" strike="noStrike">
                <a:solidFill>
                  <a:srgbClr val="c0c0c0"/>
                </a:solidFill>
                <a:latin typeface="Arial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454120"/>
            <a:ext cx="9144000" cy="411192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figuring EIGR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Introducing EIGR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74760" y="1287360"/>
            <a:ext cx="8526240" cy="5189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itial Route Discove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ame metric components as IGR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metric is IGRP metric multiplied by 25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 Calcul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5200" y="1636560"/>
            <a:ext cx="82328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default, EIGRP metri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宋体"/>
              </a:rPr>
              <a:t>Metric = bandwidth (slowest link) + delay (sum of delay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 = sum of the delays in the path, in tens of microseconds, multiplied by 2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= [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/ (minimum bandwidth link along the path, in kilobits per second)] * 25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ormula with default K values (K1 = 1, K2 = 0, K3 = 1, K4 = 0, K5 = 0)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 = [K1 * BW + ((K2 * BW) / (256 – load)) + K3 * delay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K5 not equal to 0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tric = metric * [K5 / (reliability + K4)]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40040" y="1413000"/>
            <a:ext cx="5262480" cy="2706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4241880"/>
            <a:ext cx="84582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B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                  Least bandwidth 64 kbps           Total delay 6,00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X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Y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Z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D           Least bandwidth 256 kbps         Total delay 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5105520"/>
            <a:ext cx="82245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 is the sum of all the delays of the links along the path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lay = [delay in tens of microseconds] x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34452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is the lowest bandwidth of the links along the path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andwidth = [10,000,000 / (bandwidth in kbps)] x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s Calculation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5360" y="1666800"/>
            <a:ext cx="8601120" cy="38656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Metrics Are Backward-Compatibl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with 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520" y="225000"/>
            <a:ext cx="81421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4280" y="1625400"/>
            <a:ext cx="7988400" cy="464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capabilities include fast convergence and support for VLSM, partial updates, and multiple network layer protoco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key technologies are neighbor discovery/recovery, RTP, DUAL finite-state machine, and PDM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uses three tables: neighbor table, topology table, and routing table. The routing table contains the best route to each destination, called the successor route. A feasible successor route is a backup route to a destination; it is kept in the topology tab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uses the same metric components as IGRP: delay, bandwidth, reliability, load, and MTU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y default, EIGRP metric equals bandwidth (slowest link) plus dela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sum of delays)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1960">
              <a:lnSpc>
                <a:spcPct val="95000"/>
              </a:lnSpc>
              <a:spcBef>
                <a:spcPts val="788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IGRP metrics are backward-compatible with IGRP; the EIGRP-equivalent metric is the IGRP metric multiplied by 256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3840" y="1366920"/>
            <a:ext cx="6554880" cy="277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064040" y="4241880"/>
            <a:ext cx="48258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lexible network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ulticast and unicast instead of broadcast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nual summarization at any poi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0% loop-free classless 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asy configuration for WANs and 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oad balancing across equal-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unequal-cost path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3040" y="4241880"/>
            <a:ext cx="401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vanced distance v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ast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 for VLSM and discontiguous subn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artial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30040">
              <a:lnSpc>
                <a:spcPct val="90000"/>
              </a:lnSpc>
              <a:spcBef>
                <a:spcPts val="7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pport for multiple network-layer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1600200"/>
            <a:ext cx="457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Fea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Key Technolog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ighbor discovery/re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ses hello packets between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liable Transport Protocol (RT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Guaranteed, ordered delivery of EIGRP packets to all neighb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UAL finite-state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s lowest-cost, loop free, paths to each dest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tocol-dependent modules (PD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IGRP supports IP, AppleTalk, and Novell NetWa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30720" indent="-2102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ach protocol has its own EIGRP module and operates independently of any of the others that may be running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254160"/>
            <a:ext cx="7623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Neighbor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3114720"/>
            <a:ext cx="714060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DUAL Termin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lects lowest-cost, loop-free paths to each destin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D = cost between the next-hop router and the destin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D = cost from local router = AD of next-hop router + cost between the local router and the next-hop rou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west-cost = lowest F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Current) successor = next-hop router with lowest-cost, loop free 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easible successor = backup router with loop-free path (AD of feasible successor must be less than FD of current successor rout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04760" y="2486160"/>
            <a:ext cx="7134480" cy="21826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Topology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44640" y="1876320"/>
            <a:ext cx="7176960" cy="3402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IP Routing 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46040" y="1693800"/>
            <a:ext cx="8250120" cy="4511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xample: EIGRP Tab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22920" y="1273320"/>
            <a:ext cx="22024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er C 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IGRP Packe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ello: Establish neighbor relationshi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date: Send routing upda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uery: Ask neighbors about routing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ply: Respond to query about routing inform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CK: Acknowledge a reliable pack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6:46:20Z</dcterms:modified>
  <cp:revision>203</cp:revision>
  <dc:subject>Module 03 Lesson 01</dc:subject>
  <dc:title>BSCI v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