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1C4206C-B4F7-4E0F-AA8F-1020AA9E5C3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C8EE136-1211-4F44-94F7-C35C037F347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3718171-6016-4E20-8B77-0A3320C5422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01F759B-6A22-4E0F-B756-875BF783DC3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4062AA6-538C-46A5-AFD2-F215295C71C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E003095-94A1-4B02-9BB0-6C634660C1B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6AC3E38-CC01-4C8B-AD6B-85ED67BA3EA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Authent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7520" y="1644480"/>
            <a:ext cx="8597880" cy="414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76520"/>
            <a:ext cx="86868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ighbor ID     Pri   State           Dead Time   Address  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2.2.2          0   FULL/  -        00:00:31    192.168.1.102  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0.0.0/8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       10.2.2.2/32 [110/782] via 192.168.1.102, 00:00:37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0.1.1.0/24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0/27 is subnetted, 1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92.168.1.96 is directly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ping 10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 escape sequence to ab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ing 5, 100-byte ICMP Echos to 10.2.2.2, timeout is 2 secon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cess rate is 100 percent (5/5), round-trip min/avg/max = 28/28/32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Simple Password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4160" y="2514600"/>
            <a:ext cx="8597880" cy="365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0120" y="2590920"/>
            <a:ext cx="853452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debug ip ospf 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SPF adjacency even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50: OSPF: 2 Way Communication to 10.2.2.2 on Serial0/0/1, state 2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50: OSPF: Send DBD to 10.2.2.2 on Serial0/0/1 seq 0x9B6 opt 0x52 flag 0x7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62: OSPF: Rcv DBD from 10.2.2.2 on Serial0/0/1 seq 0x23ED opt0x52 flag 0x7 len 32  mtu 1500 state EX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62: OSPF: NBR Negotiation Done. We are the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Feb 17 18:42:01.262: OSPF: Send DBD to 10.2.2.2 on Serial0/0/1 seq 0x23ED opt 0x52 flag 0x2 len 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ighbor ID     Pri   State           Dead Time   Address  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2.2.2          0   FULL/  -        00:00:34    192.168.1.102   Serial0/0/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960" y="1600200"/>
            <a:ext cx="81532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ebug ip ospf ad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5960" y="20574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OSPF adjacency-related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Simple Password Authentication Problem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828800"/>
            <a:ext cx="843300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905120"/>
            <a:ext cx="8286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8:51:31.242: OSPF: Rcv pkt from 192.168.1.102, Serial0/0/1 : Mismatch Authentication type. Input packet specified type 0, we use typ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8:50:43.046: OSPF: Rcv pkt from 192.168.1.101, Serial0/0/1 : Mismatch Authentication type. Input packet specified type 1, we use typ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640" y="1295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ple authentication on R1, no authentication on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572000"/>
            <a:ext cx="8433000" cy="1676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4648320"/>
            <a:ext cx="82868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8:54:01.238: OSPF: Rcv pkt from 192.168.1.102, Serial0/0/1 : Mismatch Authentication Key - Clea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8:53:13.050: OSPF: Rcv pkt from 192.168.1.101, Serial0/0/1 : Mismatch Authentication Key - Clea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7640" y="37339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ple authentication on R1 and R2, but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689120"/>
            <a:ext cx="8597880" cy="436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765440"/>
            <a:ext cx="8286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701720"/>
            <a:ext cx="861984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debug ip ospf 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 adjacency even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30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46: OSPF: 2 Way Communication to 10.2.2.2 on Serial0/0/1, state 2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46: OSPF: Send DBD to 10.2.2.2 on Serial0/0/1 seq 0xB37 opt 0x52 flag 0x7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46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62: OSPF: Rcv DBD from 10.2.2.2 on Serial0/0/1 seq 0x32F opt 0x52 flag 0x7 len 32  mtu 1500 state EX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62: OSPF: NBR Negotiation Done. We are the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62: OSPF: Send DBD to 10.2.2.2 on Serial0/0/1 seq 0x32F opt 0x52 flag 0x2 len 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14:06.562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D     Pri   State           Dead Time   Address  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2.2.2          0   FULL/  -        00:00:35    192.168.1.102  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MD5 Authentication Problem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760" y="2755800"/>
            <a:ext cx="859788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3080" y="2832120"/>
            <a:ext cx="8286480" cy="24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6:16.530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6:26.502: OSPF: Rcv pkt from 192.168.1.102, Serial0/0/1 : Mismatch Authentication Key - No message digest key 2 on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6:26.530: OSPF: Send with youngest 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5:28.226: OSPF: Send with youngest 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5:28.286: OSPF: Rcv pkt from 192.168.1.101, Serial0/0/1 : Mismatch Authentication Key - No message digest key 1 on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*Feb 17 17:55:38.226: OSPF: Send with youngest 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6760" y="1955880"/>
            <a:ext cx="8088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 on both R1 and R2, but R1 has key 1 and R2 has key 2, both with the same pass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authentication is configured, the router generates and checks every OSPF packet and authenticates the source of each routing update packet that it receives. OSPF supports two types of authentic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(or plain text) authentication: The router sends an OSPF packet and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388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: The router generates a message digest, or hash, of the key, key ID, and message. The message digest is sent with the packet; the key is not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configure simple password authentication,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ospf authentication-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sswo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an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ospf authentic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configure MD5 authentication,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ospf message-digest-ke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d5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and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ospf authentication message-dige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ospf neighb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rou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ug ip ospf ad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o verify and troubleshoot both types of authent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th MD5 authentication,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ug ip ospf ad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output indicates the key ID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Authentication Ty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supports 2 types of authentic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(or plain text)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generates and checks every OSPF packet. Router authenticates the source of each routing update packet that it receiv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 a “key” (password); each participating neighbor must have same ke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Simple Password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0560" y="19432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authentication-key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560" y="163836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040" y="2400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signs a password to be used with neighboring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960" y="29718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7960" y="3276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authentication [message-digest | nul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440" y="3733920"/>
            <a:ext cx="70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the authentication type for an interface (since Cisco IOS software 1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7680" y="46404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7680" y="49449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authentication [message-dige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3800" y="54021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the authentication type for an area (was in Cisco IOS software before 12.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08120" y="1601640"/>
            <a:ext cx="7072200" cy="4389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 Simple Password Authentication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616800" y="1511280"/>
            <a:ext cx="17143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opback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.2.2.2</a:t>
            </a:r>
            <a:br>
              <a:rPr sz="1800"/>
            </a:br>
            <a:br>
              <a:rPr sz="3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2 Configuration for Simple Password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36840" y="2178000"/>
            <a:ext cx="5549760" cy="330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2209680"/>
            <a:ext cx="541008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0.2.2.2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2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ospf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ospf authentication-key plainp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ospf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-adjacency-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0.2.2.2 0.0.0.0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 0.0.0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Simple Password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676520"/>
            <a:ext cx="8504280" cy="4146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4600" y="1708200"/>
            <a:ext cx="84582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ighbor ID     Pri   State           Dead Time   Address    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2.2.2          0   FULL/  -        00:00:32    192.168.1.102  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0.0.0.0/8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       10.2.2.2/32 [110/782] via 192.168.1.102, 00:01:17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0.1.1.0/24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0/27 is subnetted, 1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92.168.1.96 is directly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ping 10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 escape sequence to ab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ing 5, 100-byte ICMP Echos to 10.2.2.2, timeout is 2 secon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cess rate is 100 percent (5/5), round-trip min/avg/max = 28/29/32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6280" y="1955880"/>
            <a:ext cx="81532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message-digest-key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-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d5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9800" y="165096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6280" y="2413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signs a key ID and key to be used with neighboring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6120" y="300996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960" y="33148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authentication [message-digest | nul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440" y="3772080"/>
            <a:ext cx="707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the authentication type for an interface (since Cisco IOS software 1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" y="46782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7680" y="49831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authentication [message-diges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3800" y="54403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the authentication type for an area (was in Cisco IOS software before 1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7360" y="1495440"/>
            <a:ext cx="7854840" cy="4514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 MD5 Authentication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2 Configuration for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2040" y="2178000"/>
            <a:ext cx="5550120" cy="330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01720" y="2209680"/>
            <a:ext cx="54104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0.2.2.2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2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ospf authentica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ssage-di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ospf message-digest-key 1 md5 secretp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ospf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-adjacency-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0.2.2.2 0.0.0.0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 0.0.0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8:03Z</dcterms:modified>
  <cp:revision>195</cp:revision>
  <dc:subject>Module 04 Lesson 08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