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763F302-8C80-41A5-9451-AADFB4B882C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5F126B1-62C3-457E-AB2A-919BC2B6D48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14724F8-00B0-49BF-8C52-114AC3942B0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2A059A7-B3CF-4791-84FA-9F2830F7AF2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2C9E863-2E34-4F38-8879-956590A59EF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B03E99F-1B3C-40DD-94BA-03111D335D1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93ED1DD-3313-428A-AB87-283C5BD98EB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B5CE77E-19BE-46EF-B044-AFD4A1DA97B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7A62D78-7FBD-4B0C-B8B4-001EA69596A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CAC03E7-D2BA-4FC4-B795-53136DF0315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ABC8674-9E18-48DF-8290-E4EB258CD3A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454120"/>
            <a:ext cx="9144000" cy="411192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rolling Routing Update Traff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92320" y="2943360"/>
            <a:ext cx="3159360" cy="1884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720" y="147312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he match statement may contain multiple referenc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Multiple match criteria in the same line use a logical O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t least one reference must permit the route for it to be a candidate for redistrib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720" y="4902120"/>
            <a:ext cx="822960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ach vertical match uses a logical A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ll match statements must permit the route for it to remain a candidate for redistribu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 map permit or deny determines if the candidat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will be redistribut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Oper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2040" y="541188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toco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4280" y="5106960"/>
            <a:ext cx="4848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62040" y="5869080"/>
            <a:ext cx="8227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for detailed control of routes being redistributed into a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-map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040" y="1689120"/>
            <a:ext cx="7993080" cy="43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permit | deny]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quen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4280" y="1384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2040" y="214632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route map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2040" y="298440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tch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nditio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4280" y="267984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040" y="344160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conditions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040" y="4233960"/>
            <a:ext cx="79930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t 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tio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4280" y="392904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2040" y="4691160"/>
            <a:ext cx="822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action to be taken on a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74720" y="3124080"/>
            <a:ext cx="7518240" cy="2394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match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1640" y="1600200"/>
            <a:ext cx="5241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156120"/>
            <a:ext cx="7162920" cy="21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{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 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address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route-source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p next-hop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access-lis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interface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yp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metric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route-type [external | internal | level-1 | level-2 |local]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057400"/>
            <a:ext cx="822960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s specify criteria to be matc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ssociated route map statement permits or denies the matching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74720" y="2705040"/>
            <a:ext cx="751824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et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9040" y="1447920"/>
            <a:ext cx="3641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-map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2736720"/>
            <a:ext cx="74833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{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ion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}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options 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metric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type [type-1 | type-2 | internal | external]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 [level-1 | level-2 | level-1-2 |stub-area | backbone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ip next-hop 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-hop-addre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835280"/>
            <a:ext cx="822960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modify matching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mmand modifies parameters in redistributed ro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7520" y="3809880"/>
            <a:ext cx="3492360" cy="266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s and Redistribution Command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0720" y="1371600"/>
            <a:ext cx="827424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 router osp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 redistribute rip route-map redis-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3841920"/>
            <a:ext cx="327672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permit 10 match ip address 23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-type type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deny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ip address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redis-rip permi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 5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t metric-type type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133720"/>
            <a:ext cx="822960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s matching either access list 23 or 29 are redistributed with an OSPF cost of 500, external type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s permitted by access list 37 are not re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other routes are redistributed with an OSPF cost metric of 5000, external typ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3809880"/>
            <a:ext cx="5029200" cy="99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25880" y="3841920"/>
            <a:ext cx="50292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23 permit 10.1.0.0 0.0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29 permit 172.16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37 permit 10.0.0.0 0.255.255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070000" y="1689120"/>
          <a:ext cx="4889520" cy="4444920"/>
        </p:xfrm>
        <a:graphic>
          <a:graphicData uri="http://schemas.openxmlformats.org/drawingml/2006/table">
            <a:tbl>
              <a:tblPr/>
              <a:tblGrid>
                <a:gridCol w="2444760"/>
                <a:gridCol w="2444760"/>
              </a:tblGrid>
              <a:tr h="3427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oute 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fault Dis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343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nected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tic ro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IGRP summary ro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al 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-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IPv1, RIPv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nal BG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90560" y="2233440"/>
            <a:ext cx="5762880" cy="31276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79320" y="2021040"/>
            <a:ext cx="8007480" cy="60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ts val="1998"/>
              </a:lnSpc>
              <a:spcBef>
                <a:spcPts val="788"/>
              </a:spcBef>
              <a:spcAft>
                <a:spcPts val="901"/>
              </a:spcAft>
              <a:buClr>
                <a:srgbClr val="000000"/>
              </a:buClr>
              <a:buFont typeface="Helvetica"/>
              <a:buChar char=" "/>
              <a:tabLst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ministrative distan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 wildcard-mask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320" y="167652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2666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all protocols except EIGRP and BGP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ifying 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9320" y="3697200"/>
            <a:ext cx="80074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nal-distance external-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" y="33526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0798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490760" y="1293840"/>
            <a:ext cx="5994360" cy="51782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447920" y="1666800"/>
            <a:ext cx="6095880" cy="213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1657440"/>
            <a:ext cx="576576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5800"/>
            <a:ext cx="6095880" cy="2158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49440" y="4200480"/>
            <a:ext cx="568944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3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7760" y="1230480"/>
            <a:ext cx="182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Router P3R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3320" y="3782880"/>
            <a:ext cx="18216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Router P3R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143480" cy="4406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passive-interfa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61920" y="1676520"/>
            <a:ext cx="7372440" cy="40179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360" y="1905120"/>
            <a:ext cx="4496040" cy="39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360" y="1981080"/>
            <a:ext cx="448164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P3R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0.0 0.0.255.255 area 0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distance 125 0.0.0.0 255.255.255.255 64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1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3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2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1905120"/>
            <a:ext cx="4419360" cy="3962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981080"/>
            <a:ext cx="4419360" cy="38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hostname P3R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rip metric 10000 metric-type 1 subn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31.3.2 0.0.0.0 area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125 0.0.0.0 255.255.255.255 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outer r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version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 ospf 1 metric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0.0.0.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no auto-summ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1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3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3.2.0 0.0.0.2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  <a:ea typeface="宋体"/>
              </a:rPr>
              <a:t>access-list 64 permit 10.200.200.3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7440" y="1425600"/>
            <a:ext cx="6909120" cy="49212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edistribution Using Administrative Distance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7400" y="15476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assive-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allows control of routing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distribute list uses an ACL to control routing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distribute list may be applied to an interface or to redistribute rou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oute map is a complex tool used for manipulating and filtering routes and uses match–set or if–then log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route-map can be used to streamline the route redistribution proc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ministrative distance is a value used by routers to evaluate the route received from more than one routing protoc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IP routing protocol is assigned a value by Cisco, which can be changed with Cisco IOS software command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ring route redistribution, administrative distance must be manipulated at times to maintain routing accura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2920" y="1447920"/>
            <a:ext cx="6591240" cy="4749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trolling Routing Update Traff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79320" y="2325600"/>
            <a:ext cx="815976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ribute-lis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{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–list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–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 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ing–proc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ing-process parame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5320" y="198108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distribute-l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9320" y="431964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istribute-li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ss–list-numb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|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| [route-ma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p-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in 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type 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320" y="39751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181480"/>
            <a:ext cx="82296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964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Use an access list (or route map) to permit or deny rou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964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an be applied to transmitted, received, or redistributed routing upda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523880"/>
            <a:ext cx="571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outbound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517920"/>
            <a:ext cx="5715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bound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52560" y="5791320"/>
            <a:ext cx="72388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375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Hides network 10.0.0.0 using interface filt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iltering Routing Updates with a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istribute Li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55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27320" y="1652760"/>
            <a:ext cx="6487920" cy="451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trolling Redistribution with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istribute Lis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9720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 maps are similar to a scripting language for these rea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work like a more sophisticated access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offer top-down process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ce there is a match, leave the route ma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es are sequence-numbered for easier edi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sertion of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284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etion of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maps are named rather than numbered for easi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cument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2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tch criteria and set criteria can be used, similar to the “if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n” logic in a scripting langu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Appl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common uses of route maps are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distribution route filtering: a more sophisticated alternative to distribute li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licy-based routing: the ability to determine routing policy based on criteria other than the destinati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 policy implementation: the primary tool for defining BGP routing poli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5480" y="3581280"/>
            <a:ext cx="7518600" cy="2470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3613320"/>
            <a:ext cx="669600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permit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match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match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set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{ set statements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deny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my_bgp permit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Map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ist of statements constitutes a route ma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list is processed top-down like an access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first match found for a route is appli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equence number is used for inserting or deleting specific route map stat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40:23Z</dcterms:modified>
  <cp:revision>176</cp:revision>
  <dc:subject>Module 06 Lesson 03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