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882-C34C-40BF-99BD-921D379744E1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ommand lists the RPs - they can be learned statically or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re can be multiple RPs in the network each supporting a different multicast address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f traffic is not flowing to receiv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the IGMP group membership has to be checked in local routers. The command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igmp interfac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shows various information on the selected interface and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ip igmp group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lists the local groups known to the rou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Verifying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state of multicast groups on the rou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se the 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how ip igmp interfa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” command to determine which router is the IGMPv2 Querier on the multiaccess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 “Designated Router” is a different function and is listed separately in the display abov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Note also th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router itself joined two groups (224.0.1.40 – Auto-RP, whi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a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joined automatically, and 224.2.127.254 – SDR, which was joined by configuring </a:t>
            </a:r>
            <a:r>
              <a:rPr b="0" i="1" lang="sl-SI" sz="1200" spc="-1" strike="noStrike">
                <a:solidFill>
                  <a:srgbClr val="000000"/>
                </a:solidFill>
                <a:latin typeface="Times New Roman"/>
              </a:rPr>
              <a:t>ip sdr listen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on the interf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GMP State in “rtr-a”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Group 224.1.1.1 is active on Ethernet 0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Has been active on this interface for six days and 17 h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t expires (and will be deleted) in two minutes and 31 seconds if an IGMP Host Membership report for this group is not heard in tha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last Host to report membership was 1.1.1.11 (H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Group 224.0.1.40 (Auto-RP) is 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t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omatically joined by Cisco routers and thus its expiration shows </a:t>
            </a:r>
            <a:r>
              <a:rPr b="0" i="1" lang="sl-SI" sz="1200" spc="-1" strike="noStrike">
                <a:solidFill>
                  <a:srgbClr val="000000"/>
                </a:solidFill>
                <a:latin typeface="Times New Roman"/>
              </a:rPr>
              <a:t>neve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how multicast group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and to display the multicast group configu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se the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how multicast route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and to display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information about dynamically learned and manually configured multicast router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s.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IGMP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cifies to display only the configuration information learned through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n the example above we have IGMP enabled multicast router with the IP address 10.0.0.1 and a multicast receiver with the IP address 10.0.0.2 connected to the router via switch that has IGMP Snooping enabled over ports 4/1 and 4/2 respectively. Both ports are in a vlan 10. The IGMP router with the MAC address 00-10-11-7e-74-8d is a member of multicast  group 224.0.1.40 and the multicast receiver with the MAC address 00-90-5f-69-a0-21 is receiving mulicast traffic from multicast group 224.1.2.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7960" y="460440"/>
            <a:ext cx="4043520" cy="3031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3733560"/>
            <a:ext cx="50292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output of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gmp statistic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shows sample statistics for VLAN 10. The number of Group Specific Queries and General Queries is shown along with the number of Host Memebrship Report and Group Leav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statistics are split into Receive and Transmit par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407960" y="460440"/>
            <a:ext cx="4043520" cy="3031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733560"/>
            <a:ext cx="502920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multicast route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displays the information about IGMP router port and VLAN configuration on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multicast group igmp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list the information about the VLAN, multicast group and ports that are joined to that multicast group on a swit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mrout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command is the most useful command in determining the state of multicast sources and groups as seen from the selected router perspective. The output of the command generally represents a part of the multicast distribution tree with incoming interface ald list of outgoing interf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Partial output taken from a production router in Cisco’s network for more interesting outp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a generic multicast routing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(*,G) and (S,G) e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coming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tgoing interface list (OI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RP (if 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me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s - how long the entry has been in the table and when it will exp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4452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When PIM Dense Mode is configur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the first step to chec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 proper operation is to determine the PIM neighbors. The following commands do 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is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pim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show ip pim neighb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Times New Roman"/>
              </a:rPr>
              <a:t>mr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br Count = number of neighbors on this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DR = 0.0.0.0 in this example, because p2p links do not have D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Uptime—indicates how long the neighbor adjacency has ex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Expires—indicates when the adjacency will timeout and be removed - PIM hellos maintain this adjac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Mode—indicates what mode the interface is running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command lists the RPs - they can be learned statically or dynam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Note that there can be multiple RPs in the network each supporting a different multicast address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ldImg"/>
          </p:nvPr>
        </p:nvSpPr>
        <p:spPr>
          <a:xfrm>
            <a:off x="1166760" y="609480"/>
            <a:ext cx="4564080" cy="3422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3004920"/>
            <a:ext cx="779796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Multic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ulticast Configuration and Ver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9800" y="4241880"/>
            <a:ext cx="3848040" cy="2919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800" y="1803240"/>
            <a:ext cx="3441960" cy="2541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3080" y="1530360"/>
            <a:ext cx="8458200" cy="472428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(towards the R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rpf 10.127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formation for NA-1 (10.127.0.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terface: Serial1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neighbor: ? (10.127.0.2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oute/mask: 10.127.0.7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type: unicast (ospf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ecursion count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Doing distance-preferred lookups across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(towards the sour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rpf 10.139.17.1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formation for ? (10.139.17.1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interface: Serial0/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neighbor: ? (10.139.16.1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oute/mask: 10.139.17.0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type: unicast (ospf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PF recursion count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Doing distance-preferred lookups across 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hecking the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a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igmp interface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8640" y="23623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multicast-related information about an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8640" y="35053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igmp groups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2004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640" y="396252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multicast groups that are directly connected to the router and that were learned via IG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gm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terf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47640" y="2020320"/>
            <a:ext cx="7848720" cy="37443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tr-a&gt;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ow ip igmp interface e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Ethernet0 is up, line protocol i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is 1.1.1.1, subnet mask is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is en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urrent IGMP version i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CGMP is dis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y interval is 6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ier timeout is 12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max query response time is 1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bound IGMP access group is not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routing is enabled on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TTL threshold i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designated router (DR) is 1.1.1.1 (this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querying router is 1.1.1.1 (this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ulticast groups joined: 224.0.1.40 224.2.127.2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gm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5440" y="3237120"/>
            <a:ext cx="8458200" cy="13107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tr-a&gt;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 ip igmp group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GMP Connected Group Memb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 Address    Interface      Uptime    Expires   Last Repo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224.1.1.1        Ethernet0      6d17h     00:01:47  1.1.1.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224.0.1.40       Ethernet0      6d17h     never     1.1.1.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Verifying IGMP Snoo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200" y="2363760"/>
            <a:ext cx="831528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multicast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g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is used, only IGMP-learned information is sh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7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multicast group [igmp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c_add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lan_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it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1200" y="4444920"/>
            <a:ext cx="83152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on dynamically learned and manually configured multicast router por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gm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is used, only IGMP-learned information is sho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0720" y="40258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multicast router [igmp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od_num/port_nu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lan_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720" y="368136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wit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479600" y="1782720"/>
            <a:ext cx="6183360" cy="4232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43080" y="1609200"/>
            <a:ext cx="8458200" cy="456516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ow igmp statistics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enab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statistics for vlan 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IGMP statistics for vlan 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ransm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eneral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 Specific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port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Leav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ceiv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eneral Queries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 Specific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Reports: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Leav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tal Valid pkts: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tal Invalid pkt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Other pkts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MAC-Based General Querie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Failures to add GDA to EARL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Topology Notifications: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43080" y="2397240"/>
            <a:ext cx="8458200" cy="298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ow multicast router ig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Port       V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---------- 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4/1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otal Number of Entries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'*' - Config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'+' - RGMP-cap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witch&gt; 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ow multicast group ig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VLAN  Dest MAC/Route Des  [CoS]  Destination Ports or VCs / [Protocol Typ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----  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    01-00-5e-00-01-28          4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    01-00-5e-01-02-03          4/1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otal Number of Entries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IGMP Snoop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—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xample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ing a simple multicast network requires a global multicast command, a multicast command for each interface, and the specification of an RP discovery metho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ffective methods for verifying a multicast network include checking the multicast routing table and checking PIM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ing IGMP snooping on an Ethernet switch avoids the problem of multicast frame floo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I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M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figuration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80880" y="1600200"/>
            <a:ext cx="8305920" cy="1161000"/>
            <a:chOff x="380880" y="1600200"/>
            <a:chExt cx="8305920" cy="1161000"/>
          </a:xfrm>
        </p:grpSpPr>
        <p:sp>
          <p:nvSpPr>
            <p:cNvPr id="92" name=""/>
            <p:cNvSpPr/>
            <p:nvPr/>
          </p:nvSpPr>
          <p:spPr>
            <a:xfrm>
              <a:off x="458640" y="190512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p multicast-routin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880" y="1600200"/>
              <a:ext cx="4848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(config)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8640" y="236232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ables multicast rout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3048120"/>
            <a:ext cx="8305920" cy="1465560"/>
            <a:chOff x="380880" y="3048120"/>
            <a:chExt cx="8305920" cy="1465560"/>
          </a:xfrm>
        </p:grpSpPr>
        <p:sp>
          <p:nvSpPr>
            <p:cNvPr id="96" name=""/>
            <p:cNvSpPr/>
            <p:nvPr/>
          </p:nvSpPr>
          <p:spPr>
            <a:xfrm>
              <a:off x="458640" y="335268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ip pim { sparse-mode | sparse-dense-mode }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304812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(config-if)#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8640" y="3809880"/>
              <a:ext cx="82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Enables PIM SM on an interface; the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arse-dense-mod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ption enables mixed sparse-dense group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58640" y="4952880"/>
            <a:ext cx="8158320" cy="51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pim send-rp-announce 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 scope 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roup-list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pim send-rp-discovery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cope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64832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8640" y="551196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s the ability of a group of routers to be and discov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Ps dynam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spec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ulticast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u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040" y="2363760"/>
            <a:ext cx="83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plays the contents of the IP multicast routing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ummary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 one-line, abbreviated summary of each entry in the IP multicast routing 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oun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statistics about the group and source, including number of packets, packets per second, average packet size, and bits per seco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ctive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:</a:t>
            </a:r>
            <a:r>
              <a:rPr b="0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rate at which active sources are sending to multicast groups. Active sources are those sending at a rate specified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b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rgument or higher.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b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rgument defaults to 4 k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0720" y="1944720"/>
            <a:ext cx="8159760" cy="335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how ip mroute [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 [summary] [count] [activ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kbp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ip mrou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3080" y="1606680"/>
            <a:ext cx="8458200" cy="457200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1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 ip m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P Multicast Routing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Flags: D - Dense, S - Sparse, B - Bidir Group, s - SSM Group, C - Conn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L - Local, P - Pruned, R - RP-bit set, F - Register flag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 - SPT-bit set, J - Join SPT, M - MSDP created entry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X - Proxy Join Timer Running, A - Advertised via MSDP, U - UR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 - Received Source Specific Host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flags: H - Hardware switch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Timers: Uptime/Exp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terface state: Interface, Next-Hop or VCD, State/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(*, 224.1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), 00:07:54/00:02:59, RP 10.127.0.7, flags: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coming interface: Null, RPF nbr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lis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erial1/3, Forward/Sparse, 00:07:54/00:02: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8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, 224.1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1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), 00:01:29/00:02:08, flags: 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Incoming interface: Serial1/4, RPF nbr 10.139.16.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Outgoing interface lis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Serial1/3, Forward/Sparse, 00:00:57/00:02: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Finding PIM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interface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count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8640" y="23623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interfaces configured for P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640" y="35053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neighbor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32004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8640" y="39625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sts the PIM neighbors discovered by the Cisco IOS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51055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rinfo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hosthan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48006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8640" y="556272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ueries which neighboring multicast routers are peering with the local router or router spec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ow ip pim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terfa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3080" y="2914560"/>
            <a:ext cx="8458200" cy="175284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ip pim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ress          Interface          Ver/   Nbr    Query  DR    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de   Count  Intvl  P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39.16.133    Serial0/0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27.0.170     Serial1/2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27.0.242     Serial1/3          v2/S   1      30     1     0.0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ow ip pim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hb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3080" y="2914560"/>
            <a:ext cx="8458200" cy="175284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A-2#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ip pim neighb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PIM Neighbor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Neighbor          Interface          Uptime/Expires    Ver   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Address                                                      Pri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39.16.134     Serial0/0          00:01:46/00:01:28 v2    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27.0.169      Serial1/2          00:01:05/00:01:40 v2    1        (B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10.127.0.241      Serial1/3          00:01:56/00:01:18 v2    1        (B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hecking RP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200" y="2363760"/>
            <a:ext cx="8315280" cy="15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ctive RPs that are cached with associated multicast routing e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Mapp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displays all group-to-RP mappings that the router is awar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07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im rp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grou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mapping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6720" y="160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1200" y="4686480"/>
            <a:ext cx="8315280" cy="15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how IP multicast routing does Reverse Path Forwarding (RP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IP address of a source of an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720" y="42800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pf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720" y="393552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95360" y="2654280"/>
            <a:ext cx="3416400" cy="27936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943280"/>
            <a:ext cx="2514600" cy="2664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w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ip pim 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3080" y="1720800"/>
            <a:ext cx="8458200" cy="4343400"/>
          </a:xfrm>
          <a:prstGeom prst="flowChart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P4-2#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sh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ow</a:t>
            </a:r>
            <a:r>
              <a:rPr b="1" lang="sl-SI" sz="1600" spc="-1" strike="noStrike">
                <a:solidFill>
                  <a:srgbClr val="b92b38"/>
                </a:solidFill>
                <a:latin typeface="Courier New"/>
              </a:rPr>
              <a:t> ip pim 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ourier New"/>
              </a:rPr>
              <a:t>Group: 224.1.2.3, RP: 10.127.0.7, uptime 00:00:20, expires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4-2#</a:t>
            </a:r>
            <a:r>
              <a:rPr b="1" lang="en-US" sz="1600" spc="-1" strike="noStrike">
                <a:solidFill>
                  <a:srgbClr val="b92b38"/>
                </a:solidFill>
                <a:latin typeface="Courier New"/>
                <a:ea typeface="宋体"/>
              </a:rPr>
              <a:t>show ip pim rp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PIM Group-to-RP Mapp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 224.0.1.39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 10.127.0.7 (NA-1), 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fo source: local, via Auto-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ptime: 00:00:21, expires: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 224.0.1.40/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 10.127.0.7 (NA-1), 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Info source: local, via Auto-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Uptime: 00:00:21, expires: ne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Group(s): 224.0.0.0/4, St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P: 10.127.0.7 (NA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7:33:32Z</dcterms:created>
  <dc:creator> </dc:creator>
  <dc:description/>
  <dc:language>en-US</dc:language>
  <cp:lastModifiedBy>whccie</cp:lastModifiedBy>
  <dcterms:modified xsi:type="dcterms:W3CDTF">2007-01-17T09:06:33Z</dcterms:modified>
  <cp:revision>23</cp:revision>
  <dc:subject/>
  <dc:title>Implementing Multicast</dc:title>
</cp:coreProperties>
</file>