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75240" y="8748720"/>
            <a:ext cx="457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80" y="8929800"/>
            <a:ext cx="26719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51120" bIns="51120" anchor="t">
            <a:spAutoFit/>
          </a:bodyPr>
          <a:p>
            <a:pPr>
              <a:tabLst>
                <a:tab algn="l" pos="0"/>
                <a:tab algn="l" pos="2427120"/>
                <a:tab algn="l" pos="491328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27120"/>
                <a:tab algn="l" pos="491328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5520" y="8943840"/>
            <a:ext cx="678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B554645-D4BF-4FFC-90AA-6AE5EB5AF9E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901800" y="249120"/>
            <a:ext cx="5408640" cy="405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12560" y="4449600"/>
            <a:ext cx="6243480" cy="4322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51120" bIns="51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ADB3CE8-85E3-4C91-BE3C-CDCF4C7FF84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E80CAA3-DE67-4273-944C-FEFC6672268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015F7E5-9CA0-431C-A7A3-0C723022259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13A1B36-2ED6-43C4-B4FD-6086BEE6C52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B730780-0C56-465A-A479-70D897A419E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49640" y="-1440"/>
            <a:ext cx="3103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3240" y="-1440"/>
            <a:ext cx="310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FC90880-426C-40A2-85E6-C489193F1B3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49640" y="-1440"/>
            <a:ext cx="3103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3240" y="-1440"/>
            <a:ext cx="310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5DD630B-D559-4902-B581-33687DF293F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9640" y="-1440"/>
            <a:ext cx="3103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3240" y="-1440"/>
            <a:ext cx="310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425EC29-40E3-4B84-9E45-305CD46BC52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4FC222D-3D92-4A38-B73B-A73B4809D6C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28B3F09-9AAA-4B13-B631-669A840EADED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356CEE2-A8E2-4B00-AA8F-C7FE4E270AA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729AA6B-18AC-4898-B91B-D989700B349D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673F6D2-D62F-4F3C-9505-55A51BF3311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14360" y="58104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94960" y="413028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6CDE735-1BAC-4608-AB3B-A681902CA67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14360" y="581040"/>
            <a:ext cx="4533840" cy="34005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94960" y="413028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764ED12-D731-4705-BF28-232930A1904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49640" y="-1440"/>
            <a:ext cx="3103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3240" y="-1440"/>
            <a:ext cx="310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254E00F-F665-4BAD-9C64-1A8386E613F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49640" y="-1440"/>
            <a:ext cx="31035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3240" y="-1440"/>
            <a:ext cx="31003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046920" y="8821800"/>
            <a:ext cx="830160" cy="2937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21365C8-554B-4E3F-8D06-7B58501EF42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16160" y="581040"/>
            <a:ext cx="4532040" cy="3398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94960" y="4128840"/>
            <a:ext cx="5380200" cy="446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 IS-IS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Performing IS-IS Routing Op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dressing and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Area add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used to route between areas; 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system 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not conside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System 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used to route within an area; 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area add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not consider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I IS-IS Routing Log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evel 1 router: For a destination address, compare the </a:t>
            </a:r>
            <a:r>
              <a:rPr b="1" lang="en-US" sz="2400" spc="-1" strike="noStrike">
                <a:solidFill>
                  <a:srgbClr val="b92b38"/>
                </a:solidFill>
                <a:latin typeface="Arial"/>
                <a:ea typeface="宋体"/>
              </a:rPr>
              <a:t>area 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to this are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not equal, pass to nearest Level 1-2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equal, use Level 1 database to route by 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system 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evel 1-2 router: For a destination address, compare the </a:t>
            </a:r>
            <a:r>
              <a:rPr b="1" lang="en-US" sz="2400" spc="-1" strike="noStrike">
                <a:solidFill>
                  <a:srgbClr val="b92b38"/>
                </a:solidFill>
                <a:latin typeface="Arial"/>
                <a:ea typeface="宋体"/>
              </a:rPr>
              <a:t>area 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to this are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not equal, use Level 2 database to route by 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area add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equal, use Level 1 database to route by 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system 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14480" y="1322280"/>
            <a:ext cx="7188120" cy="5193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Identifying Systems: OSI Addressing in Network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06480" y="1663560"/>
            <a:ext cx="7329600" cy="4140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SI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rea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Leak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vailable since Cisco IOS Sofware Release 1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lps reduce suboptimal routing by allowing Level 2 information to be leaked into Level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s up/down bit in Type, Length, and Value (TLV) fi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OSI PD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DUs between pe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twork PDU = datagram, pack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a-link PDU = fr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55520" y="3630600"/>
            <a:ext cx="703116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S-IS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PDU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-IS PDUs are encapsulated directly into a data-link frame. There is no CLNP or IP header in a PDU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S-IS PDUs are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ello (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SH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ISH,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S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SNP (partial sequence number PDU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SNP (complete sequence number PDU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927000" y="2374920"/>
          <a:ext cx="2463840" cy="3085920"/>
        </p:xfrm>
        <a:graphic>
          <a:graphicData uri="http://schemas.openxmlformats.org/drawingml/2006/table">
            <a:tbl>
              <a:tblPr/>
              <a:tblGrid>
                <a:gridCol w="2463840"/>
              </a:tblGrid>
              <a:tr h="81288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SP Hea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</a:tr>
              <a:tr h="7365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S Neighb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S Neighb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…………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 Link-State Packet Represents Rout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01960" y="1636560"/>
            <a:ext cx="3894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7000"/>
          </a:bodyPr>
          <a:p>
            <a:pPr lvl="1" marL="29844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outer des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bes itself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LS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LSP header cont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nclude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PDU typ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ngth, LSP</a:t>
            </a:r>
            <a:br>
              <a:rPr sz="2000"/>
            </a:b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D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quen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umber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main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fe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L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length field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S neighb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S neighb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uthentication i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652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95320" y="4694400"/>
            <a:ext cx="547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95320" y="3936960"/>
            <a:ext cx="547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95320" y="3187800"/>
            <a:ext cx="547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LSP Head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SPs are sequenced to prevent duplication of LS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sists with synchroniz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quence numbers begin at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quence numbers are increased to indicat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newest LS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SPs in LSDB have a remaining life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ows synchroniz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creasing tim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825480" y="1892160"/>
          <a:ext cx="7327800" cy="3086280"/>
        </p:xfrm>
        <a:graphic>
          <a:graphicData uri="http://schemas.openxmlformats.org/drawingml/2006/table">
            <a:tbl>
              <a:tblPr/>
              <a:tblGrid>
                <a:gridCol w="1922400"/>
                <a:gridCol w="817560"/>
                <a:gridCol w="1844640"/>
                <a:gridCol w="2743200"/>
              </a:tblGrid>
              <a:tr h="533520">
                <a:tc>
                  <a:txBody>
                    <a:bodyPr lIns="82440" rIns="82440" tIns="36720" bIns="3672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LV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ype Cod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ength Fiel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Value Variable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</a:tr>
              <a:tr h="507960">
                <a:tc>
                  <a:txBody>
                    <a:bodyPr lIns="82440" rIns="82440" tIns="36720" bIns="3672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rea addr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rea ID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ength + 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r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520">
                <a:tc>
                  <a:txBody>
                    <a:bodyPr lIns="82440" rIns="82440" tIns="36720" bIns="3672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mediate system neighbo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eighbor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unt + 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S neighbo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6560">
                <a:tc>
                  <a:txBody>
                    <a:bodyPr lIns="82440" rIns="82440" tIns="36720" bIns="3672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P internal reachabil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umber of connected prefix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nected IP prefixes —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-byte metric, 4-byte prefix, 4-byte mas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4720">
                <a:tc>
                  <a:txBody>
                    <a:bodyPr lIns="82440" rIns="82440" tIns="36720" bIns="3672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P external reachabil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umber of redistributed prefix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edistributed IP prefixes —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4-byte metric, 4-byte prefix, 4-byte mas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SP TLV Examp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51055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set of information, called a “tuple,” includes a type code, length field, and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SI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dres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SI netwo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layer addressing is implemen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SAP addre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SAP address identif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he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I network; an address represents an entire node, not an interf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ous NSAP formats are used in various system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cause d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fferent protocols may use different repres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f NSA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SAP addresses are a maximum of 20 byt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igher-order bits identify the interarea struct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wer-order bits identify systems within are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S-IS Network Represent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lvl="1" marL="33588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y, physical links can be placed 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he following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two group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oadca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ultiaccess subnetworks that supp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ressing of a group of attached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int-to-point: Permanent or dynamically established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wo link-state representations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n IS-I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oadcast for LANs and multipoint W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int-to-point for all other topolo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has no concept of NBMA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mplementing Network Types in NBM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hen implementing IS-IS in NBM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such as Frame Relay or ATM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oadcast mode assumes fully meshed connectiv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broadcast mode, you must enable CLNS mapping and includ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oadcast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word, in addition to creating IP maps with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oadcast</a:t>
            </a: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wor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int-to-point mode is highly recommended (using subinterface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roadcast Mo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 for LAN and multipoint WAN interfa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jacency is recognized through hellos; separate adjacencies for Level 1 and Level 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ignated IS (DIS) creates a pseudonode and represents L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 for Level 1 and Level 2 may be differ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 is elected based on these criteri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72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ly routers with adjacencies are eligi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72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ighest interface prior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72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ighest SNPA (MAC) breaks t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is no backup DI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38360" y="1339920"/>
            <a:ext cx="5887800" cy="5081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SP Representing Router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AN Represent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evel 1 and Level 2 LSPs and IIH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4000"/>
          </a:bodyPr>
          <a:p>
            <a:pPr lvl="1" marL="322200" indent="-214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two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evel nature of IS-IS requires separate type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f LSPs: Level 1 and Level 2 LSP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214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 is representative of LAN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 sends pseudo-Level 1 and pseudo-Level 2 LSPs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L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parate DIS for Level 1 and Level 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214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SPs are sent as unicast on point-to-point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214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SPs are sent as multicast on broadcast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214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AN uses separate Level 1 and Level 2 IIHs; sent as multic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214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int-to-point uses a common IIH format; sent as unic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866960" y="2235240"/>
          <a:ext cx="5295960" cy="3124080"/>
        </p:xfrm>
        <a:graphic>
          <a:graphicData uri="http://schemas.openxmlformats.org/drawingml/2006/table">
            <a:tbl>
              <a:tblPr/>
              <a:tblGrid>
                <a:gridCol w="1612800"/>
                <a:gridCol w="1587600"/>
                <a:gridCol w="2095560"/>
              </a:tblGrid>
              <a:tr h="63504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Broadca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Point-to-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</a:tr>
              <a:tr h="5205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Us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AN,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ull-mesh W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PP, HDLC,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tial-mesh WA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Hello tim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3 sec for DIS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lse 10 se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 se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jacenci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 (n-1) /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-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Uses D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IH ty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evel 1 IIH,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evel 2 II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int-to-point II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mparing Broadcast and Point-to-Point Topolog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SP Flood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ngle procedure for flooding, aging, and updating of LS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1 LSPs are flooded within an are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2 LSPs are flooded throughout the Level 2 backb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arge PDUs are divided into fragments that are independently floo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PDU is assigned an LSP fragment number, starting at 0 and incrementing by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parate LSDBs are maintained for Level 1 and Level 2 LS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SDB Synchroniz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NP packets are used to ensure synchronization and reliabi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Content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SP description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SNP is used for the follow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or acknowledgment of LSPs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int-to-poi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 request missing pieces of LSD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SNP is used for the follow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iodically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y DIS on LAN to ensure LSDB accura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 point-to-point link when the link comes 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20880" y="1739880"/>
            <a:ext cx="7275240" cy="4151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SDB Synchronization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90680" y="1968480"/>
            <a:ext cx="7704000" cy="36846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SDB Synchronization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Point-to-Poi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14680" y="1600200"/>
            <a:ext cx="5713200" cy="1347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256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tegrated IS-IS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NSAP Addres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200400"/>
            <a:ext cx="8077320" cy="28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Cisco implementation of Integrated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IS-I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tinguishes only the following three fields in the NSAP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rea address: Variable-length field (1 to 13 octets)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osed of the higher-order NSAP octets, excluding system ID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NS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stem ID: ES or IS identifier in an area; fixed length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 six octets in Cisco IOS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SEL: One octet NSAP selector, service identif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 length of NSAP is from 8 (minimum) to 20 octets (maximu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46040" y="2754360"/>
            <a:ext cx="6097680" cy="33782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AN Adjacenc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6080" y="1676160"/>
            <a:ext cx="7251840" cy="106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rmAutofit/>
          </a:bodyPr>
          <a:p>
            <a:pPr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djacencies are established based on the area address announced in the incoming IIHs and the type of the rou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878120" y="1724040"/>
            <a:ext cx="5392800" cy="41911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Example: WAN Adjacenc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lvl="1" marL="329040" indent="-219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NSAP is the OSI network-layer address. Cisco uses the area address (comprising the AFI and area ID), system ID, and NSEL fields. The system ID must be 6 by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NET address is an NSAP with an NSEL value of 0 and is used to identify the device itself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defines three types of routers: Level 1, Level 2, and Level 1-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area address is used to route between areas; the system ID is used to route within an are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four types of IS-IS PDUs are hello, LSP, PSNP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 CSN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1000"/>
          </a:bodyPr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SPs are used by routers to describe their characteristics. LSPs contain a header and TLV fields. The header ensures unique sequenced packets; the TLV fields include information about the network and stations attached to the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recognizes two topology types: point-to-point and broadc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oadcast networks are LAN interfaces or multipoint WAN interfa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two-level nature of IS-IS requires separate types of LSPs: Level 1 and Level 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1 LSPs are flooded within an area; Level 2 LSPs are flooded throughout the Level 2 backb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ypical NSAP Address Structu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1000"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simplest NSAP format used by most companies running IS-IS as their IGP is as follow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7756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address (must be at least 1 by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548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FI set to 4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3304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cally administered; thus, you can assign your own addre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548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I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3304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octets of the area address after the AF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756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ystem 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548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isco routers require a 6-byte system I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7756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S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5480" indent="-185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ways set to 0 for a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0160" y="1459080"/>
            <a:ext cx="4671720" cy="490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dentifying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ystems in IS-I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Area Addres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3760" y="1636560"/>
            <a:ext cx="3809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6000"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e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dres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niquely identifies the routing area, and the system ID identifi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ach no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965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rs within an area must use the same area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965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 ES may be adjacen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a router only if they share a comm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addr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840" indent="-1965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e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ddres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d in Level 2 rout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55760" y="1454040"/>
            <a:ext cx="6432480" cy="2017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dentifying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ystem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n IS-I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System I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3553920"/>
            <a:ext cx="7940880" cy="2746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stem ID in the address used to identify the IS; it is not just an interface. Cisco supports only a 6-byte system I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stem ID is used in Level 1 routing and has to be unique within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 are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ystem ID has to be unique within Level 2 routers that form the routing doma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General recommendation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se d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omain-wide uniqu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ystem 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s m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a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C (for example, 0000.0c12.3456) or IP address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for example, 1921.6800.0001) taken from  an interfa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OSI Addressing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ET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Addres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SA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ddres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cludes NSEL field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cess or por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numb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SAP with a NSEL field of 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fers to the device itself (equivalent to the Layer 3 OSI address of the devi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n routers because they implement the network layer only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SPF calculation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8520" y="1425600"/>
            <a:ext cx="8346960" cy="1871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bnetwork Point of Attachment (SNPA)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Circu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5560" y="3498480"/>
            <a:ext cx="7940880" cy="1709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66000"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NPA is equivalent to Layer 2 address; for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5156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irtual circuit ID (DLCI on Frame Relay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5156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 address on LAN interfac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faces uniquely identified by circuit I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5156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point-to-point interfaces, SNPA is 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5156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 LANs, circuit ID concatenated with six-octet system ID of a designated IS to form seven-octet LAN ID (for example, </a:t>
            </a:r>
            <a:r>
              <a:rPr b="1" lang="en-GB" sz="1600" spc="-1" strike="noStrike">
                <a:solidFill>
                  <a:srgbClr val="336699"/>
                </a:solidFill>
                <a:latin typeface="Arial"/>
              </a:rPr>
              <a:t>1921.6800.0001</a:t>
            </a:r>
            <a:r>
              <a:rPr b="1" lang="en-GB" sz="1600" spc="-1" strike="noStrike">
                <a:solidFill>
                  <a:srgbClr val="cc0033"/>
                </a:solidFill>
                <a:latin typeface="Arial"/>
              </a:rPr>
              <a:t>.01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) is us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15156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isco routers use host name instead of system ID (for example, “R1.01”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evel 1, Level 2, and Level 1-2 Rou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9000"/>
          </a:bodyPr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evel 1 (like OSPF internal nonbackbone routers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ra-area routing enables ESs to communica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 1 area is a collection of Level 1 and Level 1-2 rou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 1 IS keeps copy of the Level 1 area LSDB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evel 1-2 (like OSPF ABR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ra-area and interarea rout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 1-2 IS keeps separate Level 1 and Level 2 LSDBs and advertises default route to Level 1 rou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evel 2 (like OSPF backbone routers)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area rout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 2 (backbone) area is a </a:t>
            </a: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t of Level 1-2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Level 2 rou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70720" indent="-18036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vel 2 IS keeps a copy of the Level 2 area LSDB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55:59Z</dcterms:modified>
  <cp:revision>222</cp:revision>
  <dc:subject>Module 05 Lesson 2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