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700200" y="4403880"/>
            <a:ext cx="5597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963600" y="8805600"/>
            <a:ext cx="303228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B22ED19-CD76-45B9-BDCE-739A9ECCFB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63960" y="-1440"/>
            <a:ext cx="3036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3240" y="-1440"/>
            <a:ext cx="3033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81240" y="571680"/>
            <a:ext cx="4444920" cy="3333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75880" y="4052520"/>
            <a:ext cx="5265720" cy="43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IPv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troducing IPv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hy Do We Need a Larger Address Spac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nternet popul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pproximately 973 million users in November 200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Emerging population and geopolitical and address space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obile user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PDA, pen-tablet, notepad, and so on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pproximately 20 million in 2004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Mobile phon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Already 1 billion mobile phones delivered by the industry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 billion automobiles forecast for 2008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Internet access in planes – Example: Lufthansa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Consumer devic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宋体"/>
              </a:rPr>
              <a:t>Sony mandated that all its products be IPv6-enabled by 2005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4600" indent="-178200">
              <a:lnSpc>
                <a:spcPct val="90000"/>
              </a:lnSpc>
              <a:spcBef>
                <a:spcPts val="737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Billions of home and industrial appliance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Advanced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rger address sp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Global reachability and flex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Multiho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Auto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lug-and-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End to end without NAT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Renumb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196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Simpler hea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Routing effici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erformance and forwarding rate scal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No broadca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No check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Extension hea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Flow labe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IPv6 Advanced Features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bility and secu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obile IP RFC-compli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sec mandato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or native) for IPv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0196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Transi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chn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Dual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6to4 tu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00680" cy="1938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Larger Address Sp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1560" y="3530520"/>
            <a:ext cx="7940880" cy="2844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2 bits or 4 bytes l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,200,000,000 possible addressable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28 bits or 16 bytes: four times the bits of IPv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.4 *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possible addressable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40,282,366,920,938,463,374,607,432,768,211,4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 *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addresses per pers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70080" y="530208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70080" y="562608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70080" y="596916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0080" y="4273560"/>
            <a:ext cx="2836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~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31760" y="1535040"/>
            <a:ext cx="7078680" cy="3354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500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Arial"/>
              </a:rPr>
              <a:t>Larger Address Space Enabl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 Aggreg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5038560"/>
            <a:ext cx="8458200" cy="128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ggregation of prefixes announced in the global routing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fficient and scalable rou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roved bandwidth and functionality for user traff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is a powerful enhancement to IPv4. Features that offer functional improvement include a larger address space, simplified header, and mobility and secu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v6 increases the number of address bits by a factor of four, from 32 to 12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6:14:29Z</dcterms:created>
  <dc:creator>Cisco User</dc:creator>
  <dc:description/>
  <dc:language>en-US</dc:language>
  <cp:lastModifiedBy>whccie</cp:lastModifiedBy>
  <dcterms:modified xsi:type="dcterms:W3CDTF">2007-01-17T09:09:15Z</dcterms:modified>
  <cp:revision>187</cp:revision>
  <dc:subject/>
  <dc:title>Objectives</dc:title>
</cp:coreProperties>
</file>