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A1F9FE3-0C1D-4A08-9722-31E090F90D0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290B1A1-551C-4CE7-8236-F0602799968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37EA5A1-A15E-45AF-BED3-03BBA9E13CA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 IS-IS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Basic Integrated IS-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4720" y="2590920"/>
            <a:ext cx="7518240" cy="2958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imple Integrated IS-IS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2622600"/>
            <a:ext cx="669600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address 10.1.1.2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06774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ip router 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Serial 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p address 10.2.2.2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06774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ip router 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router 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b92b38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net 49.0001.0000.0000.000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778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onfigured router acts as an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P-only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vel 1-2 ro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hange IS-IS Router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720" y="23893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s-type 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-1 | level-1-2 | level-2-only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720" y="2044800"/>
            <a:ext cx="310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847960"/>
            <a:ext cx="8229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gures the IS-IS level globally on a router; the default i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vel 1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hange IS-IS Interface Lev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720" y="23893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sis circuit-type 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-1 | level-1-2 | level-2-only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720" y="20448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2847960"/>
            <a:ext cx="82296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gures the type of adjacency on an interface; the default is Level 1-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hange IS-IS Metr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4880" y="221472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sis metric </a:t>
            </a:r>
            <a:r>
              <a:rPr b="1" i="1" lang="sl-SI" sz="1800" spc="-1" strike="noStrike">
                <a:solidFill>
                  <a:srgbClr val="000000"/>
                </a:solidFill>
                <a:latin typeface="Courier New"/>
              </a:rPr>
              <a:t>metric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delay-</a:t>
            </a:r>
            <a:r>
              <a:rPr b="1" i="1" lang="sl-SI" sz="1800" spc="-1" strike="noStrike">
                <a:solidFill>
                  <a:srgbClr val="000000"/>
                </a:solidFill>
                <a:latin typeface="Courier New"/>
              </a:rPr>
              <a:t>metric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xpense-metr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rror-metr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]]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-1 | level-2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0880" y="187020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921040"/>
            <a:ext cx="79945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gures the metric for an interface; the default is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etric value is from 1 to 6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3886200"/>
            <a:ext cx="293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9040" y="42559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tric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efault-val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-1 | level-2</a:t>
            </a:r>
            <a:r>
              <a:rPr b="1" lang="sl-SI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2720" y="4702320"/>
            <a:ext cx="782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ternately, configures the metric globally for all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85880" y="1612800"/>
            <a:ext cx="7469280" cy="4621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Tuning IS-IS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4368960"/>
            <a:ext cx="320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 router type on R1 and R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 interface                                levels on R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hange metric on S0/0/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79320" y="4349880"/>
            <a:ext cx="7702560" cy="438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P Summar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2280" y="1944720"/>
            <a:ext cx="7765920" cy="579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summary-address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address m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[level-1 | level-2 | level-1-2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[tag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tag-numb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] [metric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metric-val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280" y="1600200"/>
            <a:ext cx="3489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9160" y="4425840"/>
            <a:ext cx="763272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3R1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ummary-address 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10.3.2.0 255.255.254.0 level-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2666880"/>
            <a:ext cx="751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tes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is Leve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760" y="3957480"/>
            <a:ext cx="11923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4863960"/>
            <a:ext cx="75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mmarizes 10.3.2.0/23 into Level 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74720" y="2133720"/>
            <a:ext cx="7518240" cy="365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Example: Is Integrated IS-IS Run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165400"/>
            <a:ext cx="66960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r>
              <a:rPr b="1" lang="en-US" sz="1200" spc="-1" strike="noStrike">
                <a:solidFill>
                  <a:srgbClr val="cc0033"/>
                </a:solidFill>
                <a:latin typeface="Courier New"/>
                <a:ea typeface="宋体"/>
              </a:rPr>
              <a:t>show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ing Protocol is "isi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valid after 0 seconds, hold down 0, flushed after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utgoing update filter list for all interfaces is not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ncoming update filter list for all interfaces is not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ing: 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Address Summariz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Maximum path: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ing for Networ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Loopback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Serial0/0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ing Information Sou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Gateway         Distance      Last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10.10.10.10          115      00:00: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10.30.30.30          115      00:00: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Distance: (default is 1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4720" y="5857920"/>
            <a:ext cx="753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plays the parameters and current state of the active routing protoco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6720" y="129528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720" y="160020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ip protocols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74720" y="3098880"/>
            <a:ext cx="7518240" cy="1447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Example: Are There Any IP Route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3270240"/>
            <a:ext cx="669600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show ip route i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24 is subnetted, 5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L2    10.30.30.0 [115/45] via 10.2.2.3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 L1    10.10.10.0 [115/20] via 10.1.1.1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720" y="4584600"/>
            <a:ext cx="75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plays the current state of th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0720" y="24400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ip route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addres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m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] |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protoc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process-i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720" y="213516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8640" y="182880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cln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523880"/>
            <a:ext cx="484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0968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plays information about the CLN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Troubleshooting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ommand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L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8640" y="29671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clns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area-tag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rotocol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26622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35268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s the protocol-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8640" y="41101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clns interface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38052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45720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s the CLNS-specific information about each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8640" y="5253120"/>
            <a:ext cx="815184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how clns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area-tag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 neighbors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ype numb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 [detail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49482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71500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plays both ES and IS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380880" y="1263600"/>
            <a:ext cx="8305920" cy="1421280"/>
            <a:chOff x="380880" y="1263600"/>
            <a:chExt cx="8305920" cy="1421280"/>
          </a:xfrm>
        </p:grpSpPr>
        <p:sp>
          <p:nvSpPr>
            <p:cNvPr id="169" name=""/>
            <p:cNvSpPr/>
            <p:nvPr/>
          </p:nvSpPr>
          <p:spPr>
            <a:xfrm>
              <a:off x="458640" y="1523880"/>
              <a:ext cx="8158320" cy="397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show isis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[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Courier New"/>
                </a:rPr>
                <a:t>area-tag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]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route</a:t>
              </a:r>
              <a:r>
                <a:rPr b="1" lang="en-US" sz="2000" spc="-1" strike="noStrike">
                  <a:solidFill>
                    <a:srgbClr val="306774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0880" y="1263600"/>
              <a:ext cx="4848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#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8640" y="1981080"/>
              <a:ext cx="822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isplays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-IS Level 1 routing tab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l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(system IDs)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requires that CLNS routing be enab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Troubleshooting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ommand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br>
              <a:rPr sz="3000"/>
            </a:b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CLNS an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80880" y="2793960"/>
            <a:ext cx="8305920" cy="1161000"/>
            <a:chOff x="380880" y="2793960"/>
            <a:chExt cx="8305920" cy="1161000"/>
          </a:xfrm>
        </p:grpSpPr>
        <p:sp>
          <p:nvSpPr>
            <p:cNvPr id="174" name=""/>
            <p:cNvSpPr/>
            <p:nvPr/>
          </p:nvSpPr>
          <p:spPr>
            <a:xfrm>
              <a:off x="458640" y="3098880"/>
              <a:ext cx="8158320" cy="36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show clns</a:t>
              </a:r>
              <a:r>
                <a:rPr b="1" lang="sl-SI" sz="1800" spc="-1" strike="noStrike">
                  <a:solidFill>
                    <a:srgbClr val="000000"/>
                  </a:solidFill>
                  <a:latin typeface="Courier New"/>
                </a:rPr>
                <a:t> rout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nsap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]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2793960"/>
              <a:ext cx="41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#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8640" y="3556080"/>
              <a:ext cx="82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isplays IS-IS 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routing table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(are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80880" y="4064040"/>
            <a:ext cx="8305920" cy="1160640"/>
            <a:chOff x="380880" y="4064040"/>
            <a:chExt cx="8305920" cy="1160640"/>
          </a:xfrm>
        </p:grpSpPr>
        <p:sp>
          <p:nvSpPr>
            <p:cNvPr id="178" name=""/>
            <p:cNvSpPr/>
            <p:nvPr/>
          </p:nvSpPr>
          <p:spPr>
            <a:xfrm>
              <a:off x="458640" y="4368600"/>
              <a:ext cx="8158320" cy="36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show </a:t>
              </a:r>
              <a:r>
                <a:rPr b="1" lang="sl-SI" sz="1800" spc="-1" strike="noStrike">
                  <a:solidFill>
                    <a:srgbClr val="000000"/>
                  </a:solidFill>
                  <a:latin typeface="Courier New"/>
                </a:rPr>
                <a:t>isis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rea-tag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] </a:t>
              </a:r>
              <a:r>
                <a:rPr b="1" lang="sl-SI" sz="1800" spc="-1" strike="noStrike">
                  <a:solidFill>
                    <a:srgbClr val="000000"/>
                  </a:solidFill>
                  <a:latin typeface="Courier New"/>
                </a:rPr>
                <a:t>database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880" y="4064040"/>
              <a:ext cx="41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#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8640" y="4825800"/>
              <a:ext cx="82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isplays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 IS-IS LSD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80880" y="5334120"/>
            <a:ext cx="8305920" cy="1160640"/>
            <a:chOff x="380880" y="5334120"/>
            <a:chExt cx="8305920" cy="1160640"/>
          </a:xfrm>
        </p:grpSpPr>
        <p:sp>
          <p:nvSpPr>
            <p:cNvPr id="182" name=""/>
            <p:cNvSpPr/>
            <p:nvPr/>
          </p:nvSpPr>
          <p:spPr>
            <a:xfrm>
              <a:off x="452520" y="5715000"/>
              <a:ext cx="8157960" cy="3668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765504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show isis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[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area-tag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] </a:t>
              </a:r>
              <a:r>
                <a:rPr b="1" lang="en-GB" sz="1800" spc="-1" strike="noStrike">
                  <a:solidFill>
                    <a:srgbClr val="000000"/>
                  </a:solidFill>
                  <a:latin typeface="Courier New"/>
                </a:rPr>
                <a:t>topology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宋体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8640" y="6095880"/>
              <a:ext cx="82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buClr>
                  <a:srgbClr val="306774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Displays IS-IS least-cost paths to desti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0880" y="5334120"/>
              <a:ext cx="4145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Router#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ntegrated IS-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Requires NET 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on CLNS parameters (NET) and area planning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ill required even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P environ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ven whe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tegrated IS-IS is used for IP routing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routers still establish CLN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jacenc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use CLNS pack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3360" y="2592360"/>
            <a:ext cx="8412120" cy="3272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95280" y="1663560"/>
            <a:ext cx="66294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uting in a Two-Level Are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SI Intra-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rea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nter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ea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74720" y="1689120"/>
            <a:ext cx="751824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evel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1 and Level 2 Topology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886040"/>
            <a:ext cx="731520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show isis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-IS paths to level-1 ro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stem Id            Metric     Next-Hop  Interface  SN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               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                   10         R2        Fa0/0      0016.4650.c4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sis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-IS paths to level-1 ro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stem Id            Metric     Next-Hop  Interface  SN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                   10         R1        Fa0/0      0016.4610.fd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               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-IS paths to level-2 ro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stem Id            Metric     Next-Hop  Interface  SN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                   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2               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3                   35         R3        Se0/0/1    *HDLC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74720" y="1981080"/>
            <a:ext cx="7569360" cy="365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imple Troubleshoot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br>
              <a:rPr sz="3000"/>
            </a:b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What About CLNS Protocol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2013120"/>
            <a:ext cx="669600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show clns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S-IS Router: &lt;Null Tag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ystem Id: 0000.0000.0002.00  IS-Type: level-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Manual area address(es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49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ing for area address(es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49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s supported by IS-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oopback0 -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rial0/0/1 -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astEthernet0/0 - 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tatic (on by defa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istance for L2 CLNS routes: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RR level: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enerate narrow metrics: level-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pt narrow metrics:   level-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enerate wide metrics:  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cept wide metrics:     n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880" y="1397160"/>
            <a:ext cx="8382240" cy="5029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re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Adjacencies Established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428840"/>
            <a:ext cx="8153280" cy="47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ourier New"/>
              </a:rPr>
              <a:t>R2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show clns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ystem Id      Interface   SNPA             State  Holdtime  Type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3             Se0/0/1     *HDLC*           Up     28        L2   IS-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             Fa0/0       0016.4610.fdb0   Up     23        L1   IS-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show clns interface s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rial0/0/1 is up, line protocol is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hecksums enabled, MTU 1500, Encapsulation HD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RPDUs enabled, min. interval 10 ms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LNS fast switching en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LNS SSE switching disab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C compatibility mode OFF for this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xt ESH/ISH in 45 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ing Protocol: IS-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Circuit Type: level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Interface number 0x1, local circuit ID 0x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System-ID: 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Level-2 Metric: 35, Priority: 64, Circuit ID: R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Level-2 IPv6 Metric: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umber of active level-2 adjacencies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xt IS-IS Hello in 5 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if state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6000"/>
          </a:bodyPr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IS-IS routing for IP uses CLNS and therefore requires CLNS addresses, that is, NET addre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IS-IS requires planning the addresses, enabling the router, defining the router NET, and enabling the appropriate 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can be optimized by adjusting adjacency levels and changing the default metric co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summarization can be configured with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mmary-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protoco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rou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s verify the IS-IS configuration and IP functiona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riou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s are used to troubleshoot CLNS IS-IS structures and Integrated IS-I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SI Area Rout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Building an OSI Forwarding Database (Routing Table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When databases are synchronized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jkstra’s algorithm (SPF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un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SDB to calcula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F t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shortest path to the destination is the lowest total sum of metric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parate route calculations are made for Level 1 and Level 2 routes in Level 1-2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st paths are place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SI forwarding database (CLNS routing table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Building an IP Routing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rtial route calculation (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R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un to calculate IP reach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IP and ES are represented as leaf obj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they 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 participate in SPF.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st paths are plac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P routing table following IP preferential ru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hey appear a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1 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2 IP rou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ntegrated IS-IS Configuration Step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fine areas, prepare addressing plan (NETs) for routers, and determine 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able IS-IS on the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gure the 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AutoNum type="arabicPeriod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able Integrated IS-IS on the appropriate interfa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                      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 not forget interfaces to stub IP network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ch a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loopb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terface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although there are no CLN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ighbors there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tep 1: Define Area and Address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determined by NET pref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sign to support two-level hierarch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res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: Plan to support summariz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LNS: Prefix denotes area. System ID must be uniqu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tep 2: Enable IS-IS on the Rou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720" y="23734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ter isis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area-tag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202896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876400"/>
            <a:ext cx="822960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ables the IS-IS routing 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rea-t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ame for a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en routing of CLNS packet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s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eded, use th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ns routing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tep 3: Configure the 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720" y="23893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t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network-entity-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720" y="2044800"/>
            <a:ext cx="2955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847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figures an IS-IS NET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addres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the rou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tep 4: Enable Integrate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0720" y="23385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p router isis [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area-tag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6720" y="1994040"/>
            <a:ext cx="2486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290844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ludes an interface in an IS-IS rou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57:22Z</dcterms:modified>
  <cp:revision>229</cp:revision>
  <dc:subject>Module 05 Lesson 04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