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4F90-B9B3-4671-98CF-D596C6B8317F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438-C165-4292-8957-30DA8515F754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41280" y="561960"/>
            <a:ext cx="4388040" cy="3290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639040" cy="4349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nswer to Example: W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8:13:53Z</dcterms:modified>
  <cp:revision>50</cp:revision>
  <dc:subject/>
  <dc:title>ILT-MA-ModuleSumm-v3.1.ppt</dc:title>
</cp:coreProperties>
</file>