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27640" y="8596440"/>
            <a:ext cx="44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240" y="8774280"/>
            <a:ext cx="260964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50040" bIns="50040" anchor="t">
            <a:spAutoFit/>
          </a:bodyPr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BSCI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8788320"/>
            <a:ext cx="662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Num" idx="1"/>
          </p:nvPr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zh-CN" sz="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125A4534-2358-4DD7-923F-60D35F3E64B7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865080" y="244440"/>
            <a:ext cx="5315040" cy="39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403200" y="4371840"/>
            <a:ext cx="6099120" cy="4246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A8E6CE11-6303-4D69-8C82-31043E13CB11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BFFAE1D3-B375-4C49-8AF1-CB224596C03D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689046B1-F4F7-403D-8C1A-17D27CAC1DA4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0EF6DBEE-6AB0-4CD4-A5B8-1BA3F9BC8135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EFCB995D-F317-49DD-9FBE-26349F021896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5B2847A9-28AE-43C6-AB75-B986056834AF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956040" y="-1440"/>
            <a:ext cx="30322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-3240" y="-1440"/>
            <a:ext cx="3029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1127F186-516F-4758-B934-E6CC0A19F844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56040" y="-1440"/>
            <a:ext cx="30322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-3240" y="-1440"/>
            <a:ext cx="3029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138EE2F6-CBB3-4A2E-9419-D38E60C0D72E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B52920FD-3961-43E6-9CC0-F9F0366B2E11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38479FDB-3322-4F5F-B6B4-B448ADCB8C8E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67A60EE8-D509-4A46-9B8E-5FC5749B680F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FC7180E1-97E1-41C6-B1A4-1399930FB2EF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figuring OSP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5560" y="3606840"/>
            <a:ext cx="7802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OSPF Network Typ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OSPF over NBMA Topology Modes of Oper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FC 2328-compliant modes are as follow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nbroadcast (NBM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oint-to-multipoi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dditional modes from Cisco are as follow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oint-to-multipoint nonbroadca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roadca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oint-to-poi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electing the OSPF Network Type for NBMA Network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74720" y="1944720"/>
            <a:ext cx="7734240" cy="641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p ospf network [{broadcast | non-broadcast | point-to-multipoint [non-broadcast] | point-to-point}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3960" y="2752560"/>
            <a:ext cx="77342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fines OSPF network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8600" y="1577880"/>
            <a:ext cx="26157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outer(config-if)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01800" y="4235400"/>
            <a:ext cx="5892840" cy="806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1480" y="4267080"/>
            <a:ext cx="570240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(config)#interface serial 0/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(config-if)#encapsulation frame-r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(config-if)#ip ospf network broadc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79480" y="3738600"/>
            <a:ext cx="334692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xample: Broadcast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487760" y="2587680"/>
            <a:ext cx="4256280" cy="25178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Nonbroadcast Mode (NBMA Mode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200" y="1636560"/>
            <a:ext cx="38941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6000"/>
          </a:bodyPr>
          <a:p>
            <a:pPr lvl="1" marL="329040" indent="-21924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reated as a broadc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etwork by OSPF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acts like a LAN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21924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ll serial ports are part of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same IP subne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21924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rame Relay, X.25, an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TM networks default t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onbroadcast mod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21924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eighbors must b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tatically configur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21924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uplicates LSA updat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21924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mplies with RFC 2328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Using the neighbor Comma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1560" y="3153960"/>
            <a:ext cx="7940880" cy="1692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d to statically define neighbor relationships in an NBMA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2360520"/>
            <a:ext cx="8159760" cy="641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p-addre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[priority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numb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 [poll-interval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numb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 [cost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umb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 [database-filter al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720" y="1949400"/>
            <a:ext cx="3648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74920" y="1805040"/>
            <a:ext cx="6194160" cy="25113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neighbor Command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74720" y="4626000"/>
            <a:ext cx="7531200" cy="1244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4657680"/>
            <a:ext cx="708660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A(config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router ospf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A(config-router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network 192.168.0.0 0.0.255.255 area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A(config-router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neighbor 192.168.1.2 priority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A(config-router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neighbor 192.168.1.3 priority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A(config-router)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network 172.16.0.0 0.0.255.255 area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474920" y="1805040"/>
            <a:ext cx="6194160" cy="2511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0880" y="4579920"/>
            <a:ext cx="8382240" cy="160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4668840"/>
            <a:ext cx="861048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A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show ip ospf neigh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ID   Pri   State           Dead Time   Address    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92.168.1.3   0   FULL/DROTHER    00:01:57    192.168.1.3   Serial0/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92.168.1.2   0   FULL/DROTHER    00:01:33    192.168.1.2   Serial0/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72.16.1.1    1   FULL/BDR        00:00:34    172.16.1.1   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The show ip ospf neighbor Comma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474920" y="1424160"/>
            <a:ext cx="6194160" cy="2511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Point-to-Multipoint Mo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1560" y="3979440"/>
            <a:ext cx="7940880" cy="2352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point-to-multipoint mode allows for NBMA network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point-to-multipoint mode fixes partial-mesh and star topologi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 DR is required and only a single subnet is us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30-second hello is us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mode is RFC 2328-complia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5200" y="593640"/>
            <a:ext cx="8145720" cy="457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Point-to-Multipoint Configur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1839960"/>
            <a:ext cx="7518600" cy="2274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7760" y="1871640"/>
            <a:ext cx="7175520" cy="22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nterface Serial0/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p address 192.168.1.1 255.255.255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encapsulation frame-r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p ospf network point-to-multi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 ospf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og-adjacency-cha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twork 172.16.0.0 0.0.255.255 area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twork 192.168.0.0 0.0.255.255 area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5480" y="4773600"/>
            <a:ext cx="7543800" cy="1233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65160" y="4805280"/>
            <a:ext cx="7251840" cy="11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nterface Serial0/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p address 192.168.1.3 255.255.255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encapsulation frame-r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p ospf network point-to-multi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p ospf priority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06760" y="1473120"/>
            <a:ext cx="112968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oute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1960" y="4381560"/>
            <a:ext cx="1129680" cy="3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outer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Point-to-Multipoint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13200" y="2311560"/>
            <a:ext cx="3505320" cy="190440"/>
          </a:xfrm>
          <a:prstGeom prst="rect">
            <a:avLst/>
          </a:prstGeom>
          <a:solidFill>
            <a:srgbClr val="f9de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45000" y="2971800"/>
            <a:ext cx="914400" cy="139680"/>
          </a:xfrm>
          <a:prstGeom prst="rect">
            <a:avLst/>
          </a:prstGeom>
          <a:solidFill>
            <a:srgbClr val="f9de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598760"/>
            <a:ext cx="8204400" cy="4497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44600" y="1630440"/>
            <a:ext cx="8165880" cy="41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A#sh ip ospf int s0/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erial0/0/0 is up, line protocol is 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nternet Address 192.168.1.1/24, Area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Process ID 100, Router ID 192.168.1.1, Network Type POINT_TO_MULTIPOINT, Cost: 78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Transmit Delay is 1 sec, State POINT_TO_MULTI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Timer intervals configured, Hello 30, Dead 120, Wait 120, Retransmi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ob-resync timeout 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Hello due in 00:00: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upports Link-local Signaling (LL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ndex 2/2, flood queue length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xt 0x0(0)/0x0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ast flood scan length is 1, maximum is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ast flood scan time is 0 msec, maximum is 4 m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Count is 2, Adjacent neighbor count is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djacent with neighbor 192.168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djacent with neighbor 192.168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uppress hello for 0 neighbor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A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Point-to-Multipoint Nonbroadcas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1574640"/>
            <a:ext cx="822960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isco extension to RFC-compliant point-to-multipoint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ust statically define neighbors, like nonbroadcast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ike point-to-multipoint mode, DR and BDR not el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d in special cases where neighbors cannot be automatically dis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OSPF Network Typ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three types of networks defined by OSPF ar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oint-to-point: A network that joins a single pair of route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roadcast: A multiaccess broadcast network, such as Ethern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nbroadcast multiaccess (also called NBMA): A network that interconnects more than two routers but that has no broadcast capability. Frame Relay, ATM, and X.25 are examples of NBMA network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ive modes of OSPF operation are available for NBMA network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Using Subinterfac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90480" y="2646000"/>
            <a:ext cx="7940880" cy="2949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physical serial port becomes multiple logical por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ach subinterface requires an IP subn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1520" y="1944720"/>
            <a:ext cx="8159760" cy="641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nterface serial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umb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.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ubinterface-numb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{multipoint | point-to-poin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6320" y="1576440"/>
            <a:ext cx="22042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outer(config)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Point-to-Point Subinterfac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90480" y="2646000"/>
            <a:ext cx="7940880" cy="2949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ach PVC and SVC gets its own subinterfa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SPF point-to-point mode is the default on point-to-point Frame Relay subinterfac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 DR/BD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o not need to configure neighb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1520" y="194472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nterface serial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umb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.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ubinterface-numb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point-to-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6320" y="1576440"/>
            <a:ext cx="22042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outer(config)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39880" y="1722600"/>
            <a:ext cx="7164360" cy="29368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Point-to-Point Subinterface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1560" y="4780080"/>
            <a:ext cx="7940880" cy="1488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VCs are treated like point-to-point link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ach subinterface requires a subn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Multipoint Subinterfac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1560" y="2354400"/>
            <a:ext cx="7940880" cy="3813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ultiple PVCs and SVCs are on a single subinterfa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SPF nonbroadcast mode is the defaul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R and BDR are requir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ighbors need to be statically configur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3360" y="177336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nterface serial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umb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.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ubinterface-numb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multi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8160" y="1405080"/>
            <a:ext cx="22042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outer(config)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73280" y="1411200"/>
            <a:ext cx="6783120" cy="28544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Multipoint Subinterface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6000" y="4551120"/>
            <a:ext cx="7940520" cy="1577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5000"/>
          </a:bodyPr>
          <a:p>
            <a:pPr lvl="1" marL="325800" indent="-217080">
              <a:lnSpc>
                <a:spcPct val="9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ingle interface serial 0/0/0 has been logically separated into two subinterfaces: one point-to-point (S0/0/0.1) and one point-to-multipoint (S0/0/0.2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25800" indent="-217080">
              <a:lnSpc>
                <a:spcPct val="9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ach subinterface requires a subne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25800" indent="-217080">
              <a:lnSpc>
                <a:spcPct val="9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OSPF defaults to point-to-point mode on point-to-point subinterfac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25800" indent="-217080">
              <a:lnSpc>
                <a:spcPct val="95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OSPF defaults to nonbroadcast mode on point-to-multipoint subinterfac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19040" y="1670040"/>
          <a:ext cx="8305920" cy="4133880"/>
        </p:xfrm>
        <a:graphic>
          <a:graphicData uri="http://schemas.openxmlformats.org/drawingml/2006/table">
            <a:tbl>
              <a:tblPr/>
              <a:tblGrid>
                <a:gridCol w="1428840"/>
                <a:gridCol w="1670040"/>
                <a:gridCol w="1816200"/>
                <a:gridCol w="850680"/>
                <a:gridCol w="1727280"/>
                <a:gridCol w="812880"/>
              </a:tblGrid>
              <a:tr h="47844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SPF M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NBMA Preferred Top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Subnet Addr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Hello Tim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jac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RFC or Cis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</a:tr>
              <a:tr h="68868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roadc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Full or partial m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 s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utomatic, DR/BDR el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is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556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nbroadcast (NBM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Full or partial m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0 s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anual configuration, DR/BDR el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F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176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oint-to-multipoi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artial-mesh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r s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0 S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utomatic,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 DR/BD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RF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176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oint-to-multipoint nonbroadc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artial-mesh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r st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0 s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anual configuration, no/DR/BD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is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7680"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oint-to-poi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artial-mesh or star, using subinterf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ifferent for Each Subinterf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 s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utomatic,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 DR/BD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440" rIns="82440" tIns="36720" bIns="3672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is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OSPF over NBMA Topology 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6320" y="1384200"/>
            <a:ext cx="8978760" cy="4946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reation of Adjacencies for Point-to-Point Mod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320" y="1469880"/>
            <a:ext cx="9144000" cy="47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A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debug ip ospf ad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Interface Serial0/0/0.1 going 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Build router LSA for area 0, router ID 192.168.1.1, seq 0x800000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Rcv DBD from 192.168.1.2 on Serial0/0/0.1 seq 0xCF0 opt 0x52 flag 0x7 len 32  mtu 1500 state I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2 Way Communication to 192.168.1.2 on Serial0/0/0.1, state 2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Send DBD to 192.168.1.2 on Serial0/0/0.1 seq 0xF4D opt 0x52 flag 0x7 len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NBR Negotiation Done. We are the SL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Send DBD to 192.168.1.2 on Serial0/0/0.1 seq 0xCF0 opt 0x52 flag 0x2 len 1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Rcv DBD from 192.168.1.2 on Serial0/0/0.1 seq 0xCF1 opt 0x52 flag 0x3 len 132  mtu 1500 state EX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Send DBD to 192.168.1.2 on Serial0/0/0.1 seq 0xCF1 opt 0x52 flag 0x0 len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Database request to 192.168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sent LS REQ packet to 192.168.1.2, length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Rcv DBD from 192.168.1.2 on Serial0/0/0.1 seq 0xCF2 opt 0x52 flag 0x1 len 32  mtu 1500 state EX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Exchange Done with 192.168.1.2 on Serial0/0/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Send DBD to 192.168.1.2 on Serial0/0/0.1 seq 0xCF2 opt 0x52 flag 0x0 len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Synchronized with 192.168.1.2 on Serial0/0/0.1, state FU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%OSPF-5-ADJCHG: Process 100, Nbr 192.168.1.2 on Serial0/0/0.1 from LOADING to FULL, Loading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Build router LSA for area 0, router ID 192.168.1.1, seq 0x80000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reation of Adjacencies for Broadcast Mo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3000" y="1495440"/>
            <a:ext cx="8553240" cy="4691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5680" y="1647720"/>
            <a:ext cx="8458200" cy="45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A#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debug ip ospf ad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Interface FastEthernet0/0 going 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Build router LSA for area 0, router ID 192.168.1.1,seq 0x80000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2 Way Communication to 172.16.1.1 on FastEthernet0/0, state 2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end of Wait on interface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Neighbor change Event on interface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DR/BDR election on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Elect BDR 172.16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Elect DR 192.168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DR: 192.168.1.1 (Id)   BDR: 172.16.1.1 (I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Rcv DBD from 172.16.1.1 on FastEthernet0/0 seq 0x14B 7 opt 0x52 flag 0x7 len 32  mtu 1500 state EX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First DBD and we are not SLAVE-if)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Send DBD to 172.16.1.1 on FastEthernet0/0 seq 0xDCE opt 0x52 flag 0x7 len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Retransmitting DBD to 172.16.1.1 on FastEthernet0/0[1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SPF: Rcv DBD from 172.16.1.1 on FastEthernet0/0 seq 0xD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pt 0x52 flag 0x2 len 152  mtu 1500 state EX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7000"/>
          </a:bodyPr>
          <a:p>
            <a:pPr lvl="1" marL="298440" indent="-198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SPF defines three types of networks: point-to-point, broadcast, and NBM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8440" indent="-198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point-to-point links, adjacency is dynamic, uses multicast addresses, and has no DR or BD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8440" indent="-198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broadcast links, adjacency is dynamic and includes election of a DR and BDR. All updates are sent to the DR, which forwards the updates to all route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8440" indent="-198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router with the highest OSPF priority is selected a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DR. The router with the second-highest priority value is the BD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8440" indent="-198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y default on NBMA links, adjacency requires manual definition of neighbors for the DR and BDR because OSPF will consider the network similar to broadcast medi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 (C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5000"/>
          </a:bodyPr>
          <a:p>
            <a:pPr lvl="1" marL="291600" indent="-19404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OSPF mode of operation on Frame Relay depends on the underlying Frame Relay network. OSPF mode options include nonbroadcast, broadcast, point-to-multipoint, point-to-multipoint nonbroadcast, and point-to-poi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1600" indent="-19404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 nonbroadcast mode, a DR and BDR are elected, and neighbors must be statically configur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1600" indent="-19404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 point-to-multipoint mode, no DR and BDR are needed and neighbors are automatically discovered. In point-to-multipoint nonbroadcast mode, no DR and BDR are needed, but neighbors must be statically configur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1600" indent="-19404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physical interface can be split into multiple logical interfaces called subinterfaces. Each subinterface requires an IP subn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1600" indent="-19404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ing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bug ip ospf ad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 enables you to see OSPF packet exchanges and the status of neighbor adjacenci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183280" cy="5554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Point-to-Point Link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1560" y="27226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ually a serial interface running either PPP or HDLC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ay also be a point-to-point subinterface running Frame Relay or AT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 DR or BDR election requir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SPF autodetects this interface typ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SPF packets are sent using multicast 224.0.0.5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760840" y="1474920"/>
            <a:ext cx="3622320" cy="2152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Multiaccess Broadcast Network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9680" y="3713040"/>
            <a:ext cx="7940520" cy="2772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enerally these are, LAN technologies like Ethernet and Token R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R and BDR selection are requir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ll neighbor routers form full adjacencies with the DR and BDR on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ackets to the DR and the BDR use 224.0.0.6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ackets from DR to all other routers use 224.0.0.5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779560" y="1447920"/>
            <a:ext cx="3584880" cy="26953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lecting the DR and BD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88600" y="4208400"/>
            <a:ext cx="7940520" cy="2238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ello packets are exchanged via IP multica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router with the highest OSPF priority is  selected a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DR. The router with the second-highest priority value is the BD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 the OSPF router ID as the tiebreak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DR election is nonpreemptiv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etting Priority for DR Elec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4160" y="3166920"/>
            <a:ext cx="7940520" cy="3292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interface configuration command assigns the OSPF priority to an interfa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fferent interfaces on a router may be assigned different valu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default priority is 1.  The range is from 0 to 255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 means the router cannot be the DR or BD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router that is not the DR or BDR is DROTH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3360" y="232236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p ospf priority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2440" y="1905120"/>
            <a:ext cx="295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outer(config-if)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870200" y="1844640"/>
            <a:ext cx="540216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NBMA Topolog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6760" y="3687840"/>
            <a:ext cx="7940520" cy="2162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single interface interconnects multiple sit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BMA topologies support multiple routers, but without broadcasting capabiliti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DR Election in NBMA Topolog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SPF considers NBMA to be like other broadcast medi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DR and BDR need to have fully meshed connectivity with all other routers, but NBMA networks are not always fully mesh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DR and BDR need a list of neighbo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SPF neighbors are not automatically discovered by the rout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Frame Relay Topologi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77880" y="1433520"/>
            <a:ext cx="5797800" cy="5000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Global Knowledge</dc:creator>
  <dc:description/>
  <dc:language>en-US</dc:language>
  <cp:lastModifiedBy>whccie</cp:lastModifiedBy>
  <cp:lastPrinted>1999-01-27T00:54:54Z</cp:lastPrinted>
  <dcterms:modified xsi:type="dcterms:W3CDTF">2007-01-17T07:43:43Z</dcterms:modified>
  <cp:revision>243</cp:revision>
  <dc:subject>Module 04 Lesson 02</dc:subject>
  <dc:title>BSCI v2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