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BSCI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0766834-0186-4227-AA7B-7BBE7FE137C1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8DE066F-0E4C-47D0-A053-C673DAF567C7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12FE725-48E5-4FEE-8B1A-5DEC4E98C67C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E360B15-DB81-4637-BC8F-89363682EF22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E2BBF15-8AE2-4237-87FC-F856EA496174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EA9C47F-D7BF-4736-9DC6-FA859CE16D47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A83DA4B-ADE7-4FC1-8B7E-068E6A858552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072EF59-F7D3-437A-ACA1-E3D445FE2E2F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figuring EIGR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Implementing and Verifying EIGR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74720" y="1873080"/>
            <a:ext cx="7988400" cy="3918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 EIGRP: show ip route eigr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905120"/>
            <a:ext cx="8001000" cy="39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show ip route eig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    172.17.0.0/16 [90/40514560] via 192.168.1.102, 00:07:01,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72.16.0.0/16 is variably subnetted, 2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       172.16.0.0/16 is a summary, 00:05:13, Nul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92.168.1.0/24 is variably subnetted, 2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       192.168.1.0/24 is a summary, 00:05:13, Nul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show ip rou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Gateway of last resort is n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    172.17.0.0/16 [90/40514560] via 192.168.1.102, 00:06:55,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72.16.0.0/16 is variably subnetted, 2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       172.16.0.0/16 is a summary, 00:05:07, Nul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72.16.1.0/24 is directly connected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92.168.1.0/24 is variably subnetted, 2 subnets, 2 m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       192.168.1.96/27 is directly connected,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       192.168.1.0/24 is a summary, 00:05:07, Nul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74720" y="1454040"/>
            <a:ext cx="7518240" cy="498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 EIGRP: show ip protoco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486080"/>
            <a:ext cx="66960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show ip protoc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ing Protocol is "eigrp 1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Outgoing update filter list for all interfaces is n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coming update filter list for all interfaces is n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efault networks flagged in outgoing up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efault networks accepted from incoming up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EIGRP metric weight K1=1, K2=0, K3=1, K4=0, K5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EIGRP maximum hopcount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EIGRP maximum metric varianc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edistributing: eigrp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EIGRP NSF-aware route hold timer is 24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Maximum path: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ing for Network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72.16.1.0/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92.168.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outing Information 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Gateway         Distance      Last 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(this router)         90      00:09: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Gateway         Distance      Last 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192.168.1.102         90      00:09: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Distance: internal 90 external 1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2800440"/>
            <a:ext cx="8458200" cy="1555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 EIGRP: show ip eigrp interfa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832120"/>
            <a:ext cx="853452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show ip eigrp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-EIGRP interfaces for process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Xmit Queue   Mean   Pacing Time   Multicast    Pe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terface        Peers  Un/Reliable  SRTT   Un/Reliable   Flow Timer   Ro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Fa0/0              0        0/0         0       0/10           0 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e0/0/1            1        0/0        10      10/380        424 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74720" y="1676520"/>
            <a:ext cx="7518240" cy="342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 EIGRP: show ip eigrp topolog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1708200"/>
            <a:ext cx="669600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show ip eigrp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-EIGRP Topology Table for AS(100)/ID(192.168.1.1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Codes: P - Passive, A - Active, U - Update, Q - Query, R - Repl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 - reply Status, s - sia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 192.168.1.96/27, 1 successors, FD is 4051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via Connected,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 192.168.1.0/24, 1 successors, FD is 4051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via Summary (40512000/0), Nul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 172.16.0.0/16, 1 successors, FD is 281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via Summary (28160/0), Nul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 172.16.1.0/24, 1 successors, FD is 281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via Connected,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 172.17.0.0/16, 1 successors, FD is 405145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via 192.168.1.102 (40514560/28160),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74720" y="1676520"/>
            <a:ext cx="7518240" cy="342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 EIGRP: show ip eigrp traff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708200"/>
            <a:ext cx="669600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show ip eigrp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-EIGRP Traffic Statistics for AS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Hellos sent/received: 429/1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Updates sent/received: 4/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Queries sent/received: 1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eplies sent/received: 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Acks sent/received: 4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nput queue high water mark 1, 0 dr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IA-Queries sent/received: 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SIA-Replies sent/received: 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Hello Process ID: 1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PDM Process ID: 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520" y="225000"/>
            <a:ext cx="81421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configuration commands for basic EIGRP includ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eigr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utonomous-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twork-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ldcard-ma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andwid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ilob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option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ldcard-mas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parameter in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twor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is an inverse mask used to determine how to interpre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twork-numb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arameter. A wildcard bit of 0 is a match and of 1 is “don’t care.”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reate and advertise a default route in an EIGRP AS with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p default-networ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twork-numb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mma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0520" y="225000"/>
            <a:ext cx="81421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w ip eigrp neighb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to verify that the router recognizes its neighbors. 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w ip route eigr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 to verify that the router recognizes routes from its neighbor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w ip protocol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how ip eigrp interfa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show ip eigrp neighb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show ip eigrp topolog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show ip eigrp traff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ommands to verify EIGRP opera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0720" y="1874880"/>
            <a:ext cx="8159760" cy="39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router eigrp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autonomous-system-numb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2333520"/>
            <a:ext cx="822960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ines EIGRP as the IP routing protoc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 routers in the internetwork that must exchange EIGRP routing updates must have the same autonomous system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EIGR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720" y="4286160"/>
            <a:ext cx="8159760" cy="39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network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network-numb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wildcard-mas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4800600"/>
            <a:ext cx="84582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dentifies attached networks participating in EIG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wildcard-mas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is an inverse mask used to determine how to interpret the address. The mask has wildcard bits, where 0 is a match and 1 is “don’t car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6840" y="1496880"/>
            <a:ext cx="24328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)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6840" y="3905280"/>
            <a:ext cx="349956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router)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0720" y="1874880"/>
            <a:ext cx="8159760" cy="39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65504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bandwidth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kilobi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2333520"/>
            <a:ext cx="822960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fines the interface’s bandwidth for the purposes of sending routing update 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EIGRP (Cont.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6840" y="1496880"/>
            <a:ext cx="28900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宋体"/>
              </a:rPr>
              <a:t>Router(config-if)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77960" y="1438200"/>
            <a:ext cx="5786640" cy="3981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38080" y="5562720"/>
            <a:ext cx="751860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etwork 192.168.1.0 is not configured on router A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cause it is not directly connected to router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EIGRP for I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47640" y="1554120"/>
            <a:ext cx="7846920" cy="4505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ing the Wildcard Mask in EIGR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8480" y="1357200"/>
            <a:ext cx="8110800" cy="5031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Using and Configuring the ip default-network Command for EIGR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800" y="1531800"/>
            <a:ext cx="8366400" cy="4402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 EIGRP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2 EIGRP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79640" y="2178000"/>
            <a:ext cx="5549760" cy="3308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2209680"/>
            <a:ext cx="5410080" cy="30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FastEthernet0/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ddress 172.17.2.2 255.255.255.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erface Serial0/0/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andwidth 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 address 192.168.1.102 255.255.255.2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output omitted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outer eigrp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twork 172.17.2.0 0.0.0.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twork 192.168.1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74720" y="1873080"/>
            <a:ext cx="7518240" cy="1479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erifying EIGRP: show ip eigrp neighbo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1905120"/>
            <a:ext cx="761976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show ip eigrp neighb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IP-EIGRP neighbors for process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H   Address        Interface   Hold  Uptime   SRTT   RTO  Q  Se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(sec)          (ms)       Cnt 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0   192.168.1.102  Se0/0/1     10    00:07:22   10   2280  0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宋体"/>
              </a:rPr>
              <a:t>R1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6:44:00Z</dcterms:modified>
  <cp:revision>161</cp:revision>
  <dc:subject>Module 03 Lesson 04</dc:subject>
  <dc:title>BSCI v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