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2.1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3289B04-9093-4538-9EAF-5D89FFD66F4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A89CD43-0787-4AF8-AC06-88283799427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1E00227-D238-4EDA-98B2-07C1C884B03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63AB1CC-8B7F-42C9-BAB3-82EC07AD108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97B138A-3D48-4709-A70B-CABF7F20655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nipulating Routing Upd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perating a Network Using Multiple IP Routing Protocol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33400" y="1379520"/>
            <a:ext cx="5677200" cy="5011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Multiple IP Routing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Multiple Routing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im during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pplication-specific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e size does not always fit al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litical bounda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roups that do not work well with oth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smatch between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vendor interoper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ost-based rou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19160" y="1862280"/>
            <a:ext cx="7104240" cy="4073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ng Route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Seed Metric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default-metr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establish the seed metric for the route or specify the metric when redistrib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ce a compatible metric is established, the metric will increase in increments just like any other rou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41200" y="2011320"/>
            <a:ext cx="8709120" cy="3697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edistribution with Seed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 multiple IP routing protocols can be a result of migrating to a more advanced routing protocol, a  multivendor environment, political boundaries, or device mismat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way that redistributed routes will appear in the routing table will vary depending on the protocols being redistributed and how they are redistribut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eed metric is the metric associated with the redistributed route and should make the route appear worse than any internal rou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8:33:46Z</dcterms:modified>
  <cp:revision>156</cp:revision>
  <dc:subject>Module 06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