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F4EC909-5C0B-4FD2-A383-7AF1CAE38B8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8E34818-3803-41FE-9CBF-276643567E1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03222C6-DAA1-4BE4-A8F5-F535774EAE4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1BEBD6-1A9D-48D8-9379-8CE8FDAC81F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CDC41CE-C3E6-4B6A-918D-4D252ACEEAD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643E5AE-4F0E-400C-95CC-D5E15ABDBB6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DF382DA-775A-439A-905E-1021E0D98F2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DF2190E-CA40-4763-A5C8-CFB42AF2282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5C2B512-A1B0-4D4D-8CD8-F17EE23E167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667D09-46A4-409B-8EF5-8758C20D4CE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D9933E0-6214-4396-80AD-2C5935422AA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B02D596-34B5-4A86-B65A-212E9098381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BGP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ebgp-multiho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792440"/>
            <a:ext cx="7956720" cy="43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ebgp-multihop [</a:t>
            </a:r>
            <a:r>
              <a:rPr b="1" i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ttl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5320" y="144792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2666880"/>
            <a:ext cx="8229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ncreases the default of one hop for EBGP pe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allows routes to the EBGP loopback addres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which will have a hop count greater than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2840" y="1982880"/>
            <a:ext cx="8542080" cy="3957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ebgp-multiho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xt-Hop Behavi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an AS-by-AS routing protocol, not a router-by-router routing protoco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BGP, the next hop does not mean the next router; it means the IP address to reach the next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EBGP, the default next hop is the IP address of the neighbor router that sent the upd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BGP, the BGP protocol states that the next hop advertised by EBGP should be carried into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689360" cy="3579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-Hop Behavi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35049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A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172.16.0.0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in EBGP,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xt hop of 10.10.10.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2.16.0.0 in IBGP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, keeping 10.10.10.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the next-hop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next-hop-self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560" y="2633760"/>
            <a:ext cx="7940880" cy="15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ces all updates for this neighbor to b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vertised with this router as the next ho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used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-hop-sel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will be the same as the source IP address of the BGP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94472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next-hop-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640" y="1600200"/>
            <a:ext cx="33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8000" y="1982880"/>
            <a:ext cx="8310240" cy="4110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-hop-self Configuration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876920" cy="3160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8160" y="1600200"/>
            <a:ext cx="43434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following takes place in a multiaccess net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advertis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172.30.0.0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A in EBGP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xt hop of 10.10.10.2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 10.10.10.1. This avoid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unnecessary 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being efficient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ing AS 64520 of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st entry point into AS 6500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network 172.30.0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7360" y="5105520"/>
            <a:ext cx="726264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B in AS 65000 also advertises to AS 64520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best entry point for each network in AS 64600 is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 hop of router C because that is the best path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ve through AS 65000 to AS 646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ext Hop on a Multiaccess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171612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640" y="137160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174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creates a pe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a Peer Grou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16404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eer-group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1640" y="28195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657600"/>
            <a:ext cx="8076960" cy="23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defines a template with parameters set for a group of neighbors instead of individu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useful when many neighbors have the same outbound poli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mbers can have a different in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s are generated once per peer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is simpl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683400" cy="2090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101560" y="3870000"/>
            <a:ext cx="3705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Using a Pe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5320" y="3403440"/>
            <a:ext cx="394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Without a Pe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840" y="3886200"/>
            <a:ext cx="44956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4800" y="3885480"/>
            <a:ext cx="438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61080" y="4406760"/>
            <a:ext cx="4117680" cy="176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5400" y="4433040"/>
            <a:ext cx="4021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peer-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remote-as 65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update-source Loopback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next-hop-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nternal distribute-list 20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4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5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92.168.26.1 peer-group 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Using a Peer Group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twork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690560"/>
            <a:ext cx="800748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mas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etwork-mas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oute-map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01640" y="1346040"/>
            <a:ext cx="34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438280"/>
            <a:ext cx="8305920" cy="24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tells BGP what network to advert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does no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tivate the protocol on an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out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, the command advertises classful networks. If a subnet of the classful network exists in a routing table, the classful address is an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, BGP looks for an exact match in the local routing table before announcing the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360" y="17924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 bg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9360" y="1447920"/>
            <a:ext cx="24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2362320"/>
            <a:ext cx="8229600" cy="33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enters router configuration mode only; subcommands must be entered to activate 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one instance of BGP can be configured on the router at a singl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utonomous system number identifies the autonomous system to which the router belo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utonomous system number in this command is compared to the autonomous system numbers listed in neighbor statements to determine if the neighbor is an internal or external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twork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69056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1.1 mask 255.255.25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640" y="1346040"/>
            <a:ext cx="34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235240"/>
            <a:ext cx="8305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looks for exactly 192.168.1.1/24 in the routing table, but cannot find it, so it will not announce anyt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505320"/>
            <a:ext cx="80071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0.0 mask 255.255.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8120" y="3160800"/>
            <a:ext cx="348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038480"/>
            <a:ext cx="807732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looks for exactly 192.168.0.0/16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e exact route is not in the table, you can add a static route to null0 so that the route can be annou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55560" y="128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ynchronization rule: Do not use or advertise to an external neighbor a route learned by IBGP until a matching route has been learned from an IG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sures consistency of information throughout the 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afe to have it off only if all routers in the transit path in the AS are running full-mesh IBGP; </a:t>
            </a: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宋体"/>
              </a:rPr>
              <a:t>off by default in Cisco IOS software release 12.2(8)T and la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7240" y="387036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 synchroniz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356544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4287960"/>
            <a:ext cx="822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ables BGP synchronization so that a router will advertise routes in BGP without learning them in an I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31828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ynchroniza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040" y="5029200"/>
            <a:ext cx="48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775480"/>
            <a:ext cx="822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BGP synchronization so that a router will not advertise routes in BGP until it learns them in an I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71640" y="1339920"/>
            <a:ext cx="7346880" cy="2322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581280"/>
            <a:ext cx="8153280" cy="28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synchronization is on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A, C, and D would not use or advertise the route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72.16.0.0 until they receive the matching route via an IG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E would not hear about 172.16.0.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synchronization is off (the default), t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s A, C, and D would use and advertise the route that the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ceive via IBGP; router E would hear about 172.16.0.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1125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router E sends traffic for 172.16.0.0, routers A, C, and 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ould route the packets correctly to router 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05440" cy="5110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09480" y="2133720"/>
            <a:ext cx="785016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Example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209680"/>
            <a:ext cx="79246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. RouterB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bgp 6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2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0.1.1.2 remote-as 645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3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remote-as 6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4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update-source Loopback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5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2.2 next-hop-se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6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72.16.10.0 mask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7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8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24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9. RouterB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o synchron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1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establishing a BGP session, BGP goes through the following stat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d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is searching routing table to see whether a route exists to reach the neighb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onn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found a route to the neighbor and has completed the three-way TCP handshak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Open s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Open message sent, with the parameters for the BGP sess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Open confir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Router received agreement on the parameters for establishing sess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800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ternatively, router goes into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c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ate if no response to open mess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0080" indent="-277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Establish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Peering is established; routing begi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Established and Idle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7784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Idl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router in this state cannot find the address of the neighbor in the routing table. Check for an IGP problem. Is the neighbor announcing the rout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7784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Establish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established state is the prop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te for BGP operations. In the output of the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how ip bgp 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, if the state column has a number, then the route is in the established state. The number is how many routes have been learned from this neighb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1486080"/>
            <a:ext cx="8382240" cy="480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1486080"/>
            <a:ext cx="8153640" cy="46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 ip bg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neighbor is 172.31.1.3,  remote AS 64998, external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version 4, remote router ID 172.31.2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BGP state = Establishe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, up for 00:19: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ad 00:00:10, last write 00:00:10, hold time is 180, keepalive interval is 60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apabil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 refresh: advertised and received(old &amp; 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dress family IPv4 Unicast: advertised and rece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ssage statist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Q depth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Q depth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nt       Rcv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ens:                  7         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tifications:          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pdates:               13        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neighbor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Active State Troubleshoo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ctiv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he router has sent an open packet and is waiting for a response. The state may cycle between active and idle. The neighbor may not know how to get back to this router because of the following reasons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oes not have a route to the source IP address of the BGP open packet generated by this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is peering with the wrong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oes not have a neighbor statement for this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number is misconfigu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Active State Troubleshoo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lvl="1" marL="3394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 number misconfigur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25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 the router with the wrong remote AS numb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%BGP-3-NOTIFICATION: sent to neighbor 172.31.1.3 2/2 (peer in wrong AS) 2 bytes FDE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FFFF FFFF FFFF FFFF FFFF FFFF FFFF FFFF 002D 0104 FDE6 00B4 AC1F 0203 1002 0601 0400 0100 0102 0280 0002 0202 0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t the remote rout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25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%BGP-3-NOTIFICATION: received from neighbor 172.31.1.1 2/2 (peer in wrong AS) 2 bytes FDE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remote-a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3360" y="1792440"/>
            <a:ext cx="8159760" cy="77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}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mote-a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9360" y="1447920"/>
            <a:ext cx="432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765520"/>
            <a:ext cx="822960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ctivates a BGP session with this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that is specified is the destination address of BGP packets going to this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must have an IP path to reach this neighb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fore it can set up a BGP relationshi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mote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shows what AS this neighbor is in. This AS number is used to determine if the neighbor is internal or exte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used for both external and internal neighb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574640"/>
            <a:ext cx="8534160" cy="428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Peer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63560"/>
            <a:ext cx="8381880" cy="36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 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router identifier 10.1.1.1, local AS number 65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124, main routing table version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9 network entries using 1053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22 path entries using 1144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2/5 BGP path/bestpath attribute entries using 1488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6 BGP AS-PATH entries using 144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BGP route-map cache entries using 0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BGP filter-list cache entries using 0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using 3829 total bytes of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activity 58/49 prefixes, 72/50 paths, scan interval 60 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    V    AS MsgRcvd MsgSent   TblVer  InQ OutQ Up/Down  State/PfxRc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2     4 65001      11      11      124    0    0 00:02:28       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3   4 64998      21      18      124    0    0 00:01:13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1.4  4 64999      11      10      124    0    0 00:01:11       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uthentication uses MD5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; router generates a message digest, or hash, of the key and the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ssage digest is sent;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the MD5 digest of every segment sent on the TCP connection. Router authenticates the source of each routing update packet that it rece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3360" y="18968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ip-address | peer-group-name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assword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str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9360" y="1447920"/>
            <a:ext cx="3336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ighbor Authent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85640" y="2133720"/>
            <a:ext cx="81709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1447920"/>
            <a:ext cx="8594640" cy="464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30120" y="1517760"/>
            <a:ext cx="84330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table version is 14, local router ID is 172.31.1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us codes: s suppressed, d damped, h history, * valid, &gt; best, i - internal, r RIB-failure, S S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rigin codes: i - IGP, e - EGP, ? - incomp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Next Hop            Metric LocPrf Weight P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1.0.0/24      0.0.0.0                  0         3276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 i                 10.1.0.2                 0    100      0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1.1.0/24      0.0.0.0                  0         3276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i10.1.2.0/24      10.1.0.2                 0    100      0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0.97.97.0/24    172.31.1.3                             0 64998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                  172.31.11.4                            0 64999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                 172.31.11.4              0    100      0 64999 64997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&gt; 10.254.0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                  172.31.11.4                            0 64999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                 172.31.1.3               0    100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&gt; 172.31.1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                   172.31.11.4                            0 64999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 i                 172.31.1.3               0    100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&gt; 172.31.2.0/24    172.31.1.3               0             0 64998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97200" y="6121440"/>
            <a:ext cx="51850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networks from lowest to hig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04920" y="1447920"/>
            <a:ext cx="8594640" cy="1143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show ip bgp rib-failur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0120" y="1517760"/>
            <a:ext cx="8433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bgp rib-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           Next Hop                      RIB-failure   RIB-NH M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0/24      172.31.1.3          Higher admin distance              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1.0/24     172.31.11.4         Higher admin distance              n/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743200"/>
            <a:ext cx="83818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228600" indent="-228600">
              <a:lnSpc>
                <a:spcPct val="90000"/>
              </a:lnSpc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networks that are not installed in the RIB and the reason that they were not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learing the BGP Ses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policies such as access lists or attributes are changed, the change takes effect immediately, and the next time that a prefix or path is advertised or received, the new policy is used. It can take a long time for the policy to be applied to all network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 must trigger an update to ensure that the policy is immediately applied to all affected prefixes and path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ays to trigger an upda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 re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 re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refre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55640" y="179244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640" y="144792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251080"/>
            <a:ext cx="82296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ets all BGP connections with this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ire BGP forwarding table is discar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ession makes the transition from established to idle; everything must be relea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ard Reset of BGP Ses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431640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1640" y="3971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4775040"/>
            <a:ext cx="815328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sets only a single neighb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ession makes the transition from established to idle; everything from this neighbor must be relear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ss seve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ear ip bg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657000"/>
            <a:ext cx="8145720" cy="355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oft Reset Outbou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336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[soft ou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9360" y="1600200"/>
            <a:ext cx="24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403360"/>
            <a:ext cx="792468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learned from this neighbor are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resends all BGP information to the neighbor without resetting the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nection remains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option is highly recommended when you are changing out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 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ption does not help if you are changing inbound poli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bound Soft Res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5400" y="1792440"/>
            <a:ext cx="78296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soft-reconfiguration inb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71400" y="14479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5560" y="2251080"/>
            <a:ext cx="822960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router stores all updates from this neighbor in case the inbound policy is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249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is memory-int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5400" y="3773520"/>
            <a:ext cx="78296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of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1400" y="34290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6320" y="4321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the stored information to generate new inboun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3560" y="1716120"/>
            <a:ext cx="72072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bgp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[soft in | in]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9560" y="137160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5560" y="2251080"/>
            <a:ext cx="7302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advertised to this neighbor are not withdra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es not store update information lo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nection remains establ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roduced in Cisco IOS software release 12.0(2)S and 12.0(6)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Refresh: Dynamic Inbound Soft Res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730520"/>
            <a:ext cx="7012080" cy="4060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46120" y="1328760"/>
            <a:ext cx="7924680" cy="511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bug ip bgp update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371600"/>
            <a:ext cx="7632720" cy="50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bgp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bile router debugging is on for address family: IPv4 Uni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clear ip bgp 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%BGP-5-ADJCHANGE: neighbor 10.1.0.2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1.0/24, next 10.1.0.1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metric 0, path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prepend, chgflags: 0x0) 10.1.0.0/24, next 10.1.0.1, metric 0, path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NEXT_HOP part 1 net 10.97.97.0/24, next 172.31.1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97.97.0/24, next 172.31.11.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, metric 0, path 64999 64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NEXT_HOP part 1 net 172.31.22.0/24, next 172.31.1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09: BGP(0): 10.1.0.2 send UPDATE (format) 172.31.22.0/24, next 172.31.11.4, metric 0, path 64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0.2 rcvd UPDAT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w/ attr: nexthop 10.1.0.2, origin i, localpref 100, metric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10.1.0.2 rcvd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2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24 11:06:41.349: BGP(0): 10.1.0.2 rcvd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10.1.0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36520" y="1490760"/>
            <a:ext cx="87552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configured with the following basic BGP comma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bg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-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emote-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0336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-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[ma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-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ctivates a BGP session with a neighboring rou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ut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dministratively shuts down a BGP neighb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 creating a BGP packet,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atement defines the destination IP address and the outbound interface defines the source IP addr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hen establishing a BGP session, BGP goes through the following states: idle, connect, open sent, open confirm, and establish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ou can configure MD5 authentication between two BGP peers, meaning that each segment sent on the TCP connection between the peers is verifi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20088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o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s are used to troubleshoot the BGP ses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shutdown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040" y="1981080"/>
            <a:ext cx="78120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hutdow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600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3560" y="4191120"/>
            <a:ext cx="77328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o 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shutdow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80988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240" y="2516040"/>
            <a:ext cx="822816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ministratively brings down a BGP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maintenance and policy changes to prev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f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7084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buClr>
                <a:srgbClr val="306774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-enables a BGP neighbor that has been administratively shut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Issues with Source IP Addr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creating a BGP packet, the neighbor statement defines the destination IP address and the outbound interface defines the source IP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a BGP packet is received for a new BGP session, the source address of the packet is compared to the list of neighbor stat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a match is found, a relationship is establi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 match is found, the packet is igno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ke sure that the source IP address matches the address that the other router has in its neighbor state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4880" cy="4981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IBGP Peering Iss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neighbor update-sour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9320" y="1792440"/>
            <a:ext cx="8159760" cy="777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eer-grou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update-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5320" y="1447920"/>
            <a:ext cx="3718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666880"/>
            <a:ext cx="8229600" cy="36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command allows the BGP process to use the IP address of a specified interface as the source IP address of all BGP updates to that neighb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loopback interface is usually used, because it will be available as long as the router is operat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 address used in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o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th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outer will be the destination IP address of all BGP updates and should be the loopback interfac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ro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e-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mand is normally used only with IBGP neighb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address of an EBGP neighbor must be directly connected b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fault; the loopback of an EBGP neighbor is not directly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0840" y="1901880"/>
            <a:ext cx="8866080" cy="396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GP Using Loopback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1:11Z</dcterms:modified>
  <cp:revision>313</cp:revision>
  <dc:subject>Module 07 Lesson 03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