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D8E5-F66D-47B1-A1E0-41D7ACAE91A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17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M-DM Initial Floo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M-DM is similar to DVMRP in that it initially floods multicast traffic to all parts of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ever unlike DVMRP, which pre-builds a “Truncated Broadcast Tree” that is used for initial flooding, PIM-DM initially floods traffic out ALL non RPF interfaces where ther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other PIM-DM neighbor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directly connected member of th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ason that PIM-DM does not use “Truncated Broadcast Trees” to pre-build a spanning tree for each source network is that this would require running a separate routing protocol as does DVMRP.  (At the very least, some sort of Poison-Reverse messages would have to be sent to build the TBT.)  Instead, PIM-DM uses other mechanisms to prune back the traffic flows and build Source T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itial Flooding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 this example, multicast traffic being sent by the source is flooded throughout the entir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s each router receives the multicast traffic via its RPF interface (the interface in the direction of the source), it forwards the multicast traffic to all of its PIM-DM neighb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Note that this results in some traffic arriving via a non-RPF interface such as the case of the two routers in the center of the drawing.  (Packets arriving via the non-RPF interface are discarded.) These non-RPF flows are normal for the initial flooding of data and will be corrected by the normal PIM-DM pruning mech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17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M-DM Initial Floo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M-DM is similar to DVMRP in that it initially floods multicast traffic to all parts of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ever unlike DVMRP, which pre-builds a “Truncated Broadcast Tree” that is used for initial flooding, PIM-DM initially floods traffic out ALL non RPF interfaces where ther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other PIM-DM neighbor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directly connected member of th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ason that PIM-DM does not use “Truncated Broadcast Trees” to pre-build a spanning tree for each source network is that this would require running a separate routing protocol as does DVMRP.  (At the very least, some sort of Poison-Reverse messages would have to be sent to build the TBT.)  Instead, PIM-DM uses other mechanisms to prune back the traffic flows and build Source T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itial Flooding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 this example, multicast traffic being sent by the source is flooded throughout the entir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s each router receives the multicast traffic via its RPF interface (the interface in the direction of the source), it forwards the multicast traffic to all of its PIM-DM neighb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Note that this results in some traffic arriving via a non-RPF interface such as the case of the two routers in the center of the drawing.  (Packets arriving via the non-RPF interface are discarded.) These non-RPF flows are normal for the initial flooding of data and will be corrected by the normal PIM-DM pruning mech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17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otocol Independent Multicast (PIM) Sparse-mode (RFC 23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Utilizes a rendezvous point (RP) to coordinate forwarding from source to rece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egardless of location/number of receivers, senders register with RP and send a single copy of multicast data through it to registered rece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egardless of location/number of sources, group members register to receive data and always receive it through the R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ppropriate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ide scale deployment f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ot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nsely and sparsely populated groups in the Enter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ptimal choice for all production networks regardless of size and membership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17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M-SM Shared Tree Jo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is example, there is an active receiver (attached to leaf router at the bottom of the drawing) has joined multicast group “G”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eaf router knows the IP address of the Rendezvous Point (RP) for group G and when it sends a (*,G) Join for this group towards the R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(*, G) Join travels hop-by-hop to the RP building a branch of the Shared Tree that extends from the RP to the last-hop router directly connected to the rece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this point, group “G” traffic can flow down the Shared Tree to the rece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17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M-SM Shared Tree Jo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is example, there is an active receiver (attached to leaf router at the bottom of the drawing) has joined multicast group “G”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eaf router knows the IP address of the Rendezvous Point (RP) for group G and when it sends a (*,G) Join for this group towards the R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(*, G) Join travels hop-by-hop to the RP building a branch of the Shared Tree that extends from the RP to the last-hop router directly connected to the rece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this point, group “G” traffic can flow down the Shared Tree to the rece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84760" y="-1440"/>
            <a:ext cx="2976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-3240" y="-144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43080" y="56340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58960" y="3997080"/>
            <a:ext cx="5160960" cy="43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17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ulticast Distribution Tr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fines the path down which traffic flows from source to receiver(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ulticast Forwar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Unlike unicast forwarding which uses the “destination” address to make it’s forwarding decision, multicast forwarding uses the “source” address to make it’s forwarding dec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ype of Multicast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nse Mode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pares Mode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17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hortest Path Trees — aka Source Tr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 Shortest path or source distribution tree is a minimal spanning tree with the lowest cost from the source to all leaves of the t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e forward packets on the Shortest Path Tree according to both the Source Address that the packets originated from and the Group address G that the packets are addressed to. For this reason we refer to the forwarding state on the SPT by the notation (S,G) (pronounced “S comma G”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” is the IP address of the sou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” is the multicast group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xample 1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shortest path between Source 1 and Receiver 1 is via Routers A and C, and shortest path to Receiver 2 is one additional hop via Router 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17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hortest Path Trees — aka Source Tr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 Shortest path or source distribution tree is a minimal spanning tree with the lowest cost from the source to all leaves of the t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e forward packets on the Shortest Path Tree according to both the Source Address that the packets originated from and the Group address G that the packets are addressed to. For this reason we refer to the forwarding state on the SPT by the notation (S,G) (pronounced “S comma G”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” is the IP address of the sou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” is the multicast group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xample 1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shortest path between Source 1 and Receiver 1 is via Routers A and C, and shortest path to Receiver 2 is one additional hop via Router 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17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hortest Path Trees — aka Source Tr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 Shortest path or source distribution tree is a minimal spanning tree with the lowest cost from the source to all leaves of the t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e forward packets on the Shortest Path Tree according to both the Source Address that the packets originated from and the Group address G that the packets are addressed to. For this reason we refer to the forwarding state on the SPT by the notation (S,G) (pronounced “S comma G”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” is the IP address of the sou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” is the multicast group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xample 1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shortest path between Source 1 and Receiver 1 is via Routers A and C, and shortest path to Receiver 2 is one additional hop via Router 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17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hortest Path Trees — aka Source Tr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 Shortest path or source distribution tree is a minimal spanning tree with the lowest cost from the source to all leaves of the t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e forward packets on the Shortest Path Tree according to both the Source Address that the packets originated from and the Group address G that the packets are addressed to. For this reason we refer to the forwarding state on the SPT by the notation (S,G) (pronounced “S comma G”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” is the IP address of the sou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” is the multicast group 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xample 1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shortest path between Source 1 and Receiver 1 is via Routers A and C, and shortest path to Receiver 2 is one additional hop via Router 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17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ource or Shortest Path Tree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ovides optimal path (shortest distance and minimized delay) from source to all receivers, but requires more memory to main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hared Tree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ovides sub-optimal path (may not be shortest distance and may introduce extra delay) from source to all receivers, but requires less memory to main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17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ulticast Forwar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outers must know packet origin, rather than destination (opposite of unica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.. origination IP address denotes known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.. destination IP address denotes unknown group of rece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ulticast routing utilizes Reverse Path Forwarding (RP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.. Broadcast: floods packets out all interfaces except incoming from source; initially assuming every host on network is part of multicast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.. Prune: eliminates tree branches without multicast group members; cuts off transmission to LANs without interested rece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.. Selective Forwarding: requires its own integrated unicast routing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17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M-DM Initial Floo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M-DM is similar to DVMRP in that it initially floods multicast traffic to all parts of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ever unlike DVMRP, which pre-builds a “Truncated Broadcast Tree” that is used for initial flooding, PIM-DM initially floods traffic out ALL non RPF interfaces where ther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other PIM-DM neighbor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directly connected member of th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ason that PIM-DM does not use “Truncated Broadcast Trees” to pre-build a spanning tree for each source network is that this would require running a separate routing protocol as does DVMRP.  (At the very least, some sort of Poison-Reverse messages would have to be sent to build the TBT.)  Instead, PIM-DM uses other mechanisms to prune back the traffic flows and build Source T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itial Flooding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 this example, multicast traffic being sent by the source is flooded throughout the entir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s each router receives the multicast traffic via its RPF interface (the interface in the direction of the source), it forwards the multicast traffic to all of its PIM-DM neighb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Note that this results in some traffic arriving via a non-RPF interface such as the case of the two routers in the center of the drawing.  (Packets arriving via the non-RPF interface are discarded.) These non-RPF flows are normal for the initial flooding of data and will be corrected by the normal PIM-DM pruning mech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Implementing Multica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Explaining Multicast Routing Protoco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98720" y="1925640"/>
            <a:ext cx="6945120" cy="43959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PIM-DM Flood and Prune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90440" y="1935000"/>
            <a:ext cx="7439040" cy="43959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PIM-DM Flood and Prune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50984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esults After Pru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PIM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parse Mo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Protoco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depend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 works with any of the underlying unicast routing protoc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pports both </a:t>
            </a: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source and shared tr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Based on an explicit pull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s an R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nders and receivers “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meet each oth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nders are registered with RP by their first-hop rout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ceivers are joined to the shared tre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rooted at the RP) by their local D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76360" y="1789200"/>
            <a:ext cx="6164280" cy="43956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PIM-SM Shared Tree Joi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Multiple RPs with Auto R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hared Distribution T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7200" y="1995480"/>
            <a:ext cx="7696080" cy="43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1000"/>
          </a:bodyPr>
          <a:p>
            <a:pPr lvl="1" marL="312120" indent="-207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 multicast requires multiple protocols and processes for proper packet forward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2120" indent="-207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ource and shared trees may be used to define multicast packet flows to group memb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2120" indent="-207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ulticast routing utilizes the distribution trees for proper packet forward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2120" indent="-207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IM is the routing protocol for multica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2120" indent="-207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IM-DM uses flood and prun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2120" indent="-207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IM-SM uses less device and bandwidth resources and is typically chosen to implement multicast. PIM sparse-dense mode is the recommended methodology for maximum efficiency in IP multica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Multicast Protocol Basic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Types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ulticast distribution tre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ource-rooted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lso called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hortest path trees (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Rooted at a meeting point in the network; </a:t>
            </a:r>
            <a:r>
              <a:rPr b="1" lang="en-US" sz="2000" spc="-1" strike="noStrike">
                <a:solidFill>
                  <a:srgbClr val="306774"/>
                </a:solidFill>
                <a:latin typeface="Arial"/>
                <a:ea typeface="宋体"/>
              </a:rPr>
              <a:t>s</a:t>
            </a:r>
            <a:r>
              <a:rPr b="1" lang="sl-SI" sz="2000" spc="-1" strike="noStrike">
                <a:solidFill>
                  <a:srgbClr val="306774"/>
                </a:solidFill>
                <a:latin typeface="Arial"/>
              </a:rPr>
              <a:t>hared tr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ndezvous point (R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ypes of multicast protoc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nse mode protoc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parse mode protoc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71640" y="2049480"/>
            <a:ext cx="7200720" cy="42321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Shortest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-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Path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 Tre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45872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hortest-Path or Source Distribution T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Shortest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-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Path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 Trees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5560" y="145872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hortest-Path or Source Distribution T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71640" y="2049480"/>
            <a:ext cx="7200720" cy="423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71640" y="2071800"/>
            <a:ext cx="7475400" cy="4213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Shared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 Distribution Tre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5560" y="14716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hared Distribution T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63640" y="2049480"/>
            <a:ext cx="7567560" cy="42321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Shared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 Distribution Trees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5560" y="14716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hared Distribution T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Multicast Distribution Trees</a:t>
            </a:r>
            <a:br>
              <a:rPr sz="3000"/>
            </a:b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Identif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(S,G) ent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For this particula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ource sending to this particula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ro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Traffic forwarded vi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hortest path 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our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(*,G) ent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For any (*) source sending to th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ro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Traffic forwarded via a meeting point for th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ro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Multicast Forward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ulticast routing operation is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the opposite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icast rout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nicast routing is concerned with where the packet is go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ulticast routing is concerned with where the packet comes fro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ulticast routing uses Reverse Path Forwarding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to prevent </a:t>
            </a:r>
            <a:r>
              <a:rPr b="1" lang="sl-SI" sz="2400" spc="-1" strike="noStrike">
                <a:solidFill>
                  <a:srgbClr val="b92b38"/>
                </a:solidFill>
                <a:latin typeface="Arial"/>
              </a:rPr>
              <a:t>forwarding loops</a:t>
            </a:r>
            <a:r>
              <a:rPr b="1" lang="en-US" sz="2400" spc="-1" strike="noStrike">
                <a:solidFill>
                  <a:srgbClr val="306774"/>
                </a:solidFill>
                <a:latin typeface="Arial"/>
                <a:ea typeface="宋体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93680" y="1928880"/>
            <a:ext cx="7439040" cy="4395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PIM-DM Flood and Pru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5560" y="150984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itial Floo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18:57:07Z</dcterms:created>
  <dc:creator>Bill T</dc:creator>
  <dc:description/>
  <dc:language>en-US</dc:language>
  <cp:lastModifiedBy>whccie</cp:lastModifiedBy>
  <dcterms:modified xsi:type="dcterms:W3CDTF">2007-01-17T09:24:58Z</dcterms:modified>
  <cp:revision>71</cp:revision>
  <dc:subject/>
  <dc:title>Slide 1</dc:title>
</cp:coreProperties>
</file>