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9EF99B1-840B-4D12-89F4-578B7216E9C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F6AAB04-460A-42F0-8D28-E0EBC07341C3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98069D0-3D0C-4F7A-B6E5-751747B488F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C3A489A-98B6-4B3D-9F8E-4572C553CA4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B6C5467-96A0-4992-B4DA-05344B7BBEC9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Ro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0720" y="251316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720" y="2168640"/>
            <a:ext cx="430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97180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OSPF router ID, timers, an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OSPF Oper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720" y="4191120"/>
            <a:ext cx="8312400" cy="70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neighb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 [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eighbor-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 [detai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720" y="38098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510552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information about the OSPF neighbors, including DR and BDR information on broadcast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774720" y="2178000"/>
            <a:ext cx="7823160" cy="1289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he show ip route ospf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2279520"/>
            <a:ext cx="79628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p route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0.0.0/8 is variably subnetted, 3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 IA    10.2.1.0/24 [110/782] via 10.64.0.2, 00:03:05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he show ip ospf interface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0560" y="1600200"/>
            <a:ext cx="802656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400" y="1638360"/>
            <a:ext cx="82296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A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ow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p ospf interface fastEthernet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astEthernet0/0 is up, line protocol is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net Address 10.64.0.1/24, Area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rocess ID 1, Router ID 10.64.0.1, Network Type BROADCAST, Cost: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ransmit Delay is 1 sec, State DROTHER, Priority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signated Router (ID) 10.64.0.2, Interface address 10.64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o backup designated router on this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Timer intervals configured, Hello 10, Dead 40, Wait 40, Retransmi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ob-resync timeout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due in 00:00: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orts Link-local Signaling (LL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dex 1/1, flood queue leng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xt 0x0(0)/0x0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length is 1, maximum is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Last flood scan time is 0 msec, maximum is 4 ms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Count is 1, Adjacent neighbor count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djacent with neighbor 10.64.0.2  (Designated Rou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uppress hello for 0 neighb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06440" y="1663560"/>
            <a:ext cx="8267760" cy="1371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The show ip ospf neighbor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5040" y="1714680"/>
            <a:ext cx="8140680" cy="11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outerB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ip ospf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ID   Pri   State           Dead Time   Address   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64.0.1     0     FULL/DROTHER    00:00:30    10.64.0.1 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0.2.1.1      0     FULL/  -        00:00:34    10.2.1.1  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440" y="3162240"/>
            <a:ext cx="8280360" cy="278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5040" y="3213000"/>
            <a:ext cx="814068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outerB# </a:t>
            </a:r>
            <a:r>
              <a:rPr b="1" lang="en-GB" sz="1400" spc="-1" strike="noStrike">
                <a:solidFill>
                  <a:srgbClr val="b92b38"/>
                </a:solidFill>
                <a:latin typeface="Courier New"/>
              </a:rPr>
              <a:t>show ip ospf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neighbor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0.64.0.1, interface address 10.64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 the area 0 via 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priority is 0, State is FULL, 16 state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R is 10.64.0.2 BDR is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10.2.1.1, interface address 10.2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 the area 1 via 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eighbor priority is 0, State is FULL, 6 state chan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R is 0.0.0.0 BDR is 0.0.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3000"/>
          </a:bodyPr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Configuration of OSPF is a two-step process: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Enter OSPF configuration with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outer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 to describe which interfaces will run OSPF in which area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SPF selects a router ID at startup time: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The router ID’s specified in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router-id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 under the OSPF process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Otherwise, the highest IP address of a loopback interface, if there are any, is use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6916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By default, the highest IP address of all active interfac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 to verify the router ID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284400" indent="-189720">
              <a:lnSpc>
                <a:spcPct val="90000"/>
              </a:lnSpc>
              <a:spcBef>
                <a:spcPts val="825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protocol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route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 interfac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, and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show ip ospf neighbo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宋体"/>
              </a:rPr>
              <a:t> commands to verify OSPF operation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79320" y="18288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 osp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-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[vr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vpn-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3360" y="1523880"/>
            <a:ext cx="430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225432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ables one or more OSPF routing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 Basic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9320" y="32004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etwork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 wildcard-mask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9320" y="28954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router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657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interfaces that OSPF will run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2670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ospf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-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rea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area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secondaries no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2280" y="5029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al method to enable OSPF explicitly on an interf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3400" y="1836720"/>
            <a:ext cx="7299360" cy="4249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on Internal Routers of a Single Are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1571760"/>
            <a:ext cx="8601120" cy="4187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OSPF for Multiple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Router I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1200" y="1643040"/>
            <a:ext cx="8085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router is known to OSPF by the OSPF router ID numb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SDBs use the OSPF router ID to differentiate one router from the nex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default, the router ID is the highest IP address on an active interface at the moment of OSPF process startu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loopback interface can override the OSPF router ID. If a loopback interface exists, the router ID is the highest IP address on any active loopback interf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OSP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-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can be used to override the OSPF router 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sing a loopback interface or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outer-i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ommand is recommended for stabili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92240" y="1636560"/>
            <a:ext cx="7061040" cy="1798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9480" y="3962520"/>
            <a:ext cx="815976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interface loopback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ip address 172.16.17.5 255.255.255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5003640"/>
            <a:ext cx="822960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the OSPF process is already running, the router must be reloaded or the OSPF process must be removed and reconfigured before the new loopback addr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l take eff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oopback 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66720" y="164628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-id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-addre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2108160"/>
            <a:ext cx="8229600" cy="23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is command is configured unde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ospf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y unique arbitrary 32-bit value in an IP address format (dotted decimal) can b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f this command is used on an OSPF process that is already active, then the new router ID is used after the next reload or manual OSPF process restart us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router-id Comma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6000" y="1297080"/>
            <a:ext cx="3164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720" y="5232240"/>
            <a:ext cx="8159760" cy="118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router osp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router-id 172.16.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#clear ip osp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0520" y="4654440"/>
            <a:ext cx="815976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clear ip ospf process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1520" y="4317840"/>
            <a:ext cx="1107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Router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74720" y="1689120"/>
            <a:ext cx="7543800" cy="4483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OSPF Router ID Ver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1765440"/>
            <a:ext cx="716292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erB#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sh</a:t>
            </a:r>
            <a:r>
              <a:rPr b="1" lang="en-US" sz="1400" spc="-1" strike="noStrike">
                <a:solidFill>
                  <a:srgbClr val="cc0033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宋体"/>
              </a:rPr>
              <a:t>ip osp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cess "ospf 50" with ID 10.64.0.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areas in this router is 2. 2 normal 0 stub 0 ns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areas transit capable is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xternal flood list length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BACKBONE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BACKBONE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has no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last executed 00:01:25.028 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executed 7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Number of interfaces in this area i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rea has no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last executed 00:00:54.636 a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PF algorithm executed 3 ti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8640" y="19051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protocol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00200"/>
            <a:ext cx="4848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8640" y="2362320"/>
            <a:ext cx="8228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1250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erifies the configured IP routing protocol processes, parameters, and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OSPF Ope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8640" y="370188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rou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ospf 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process-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339732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8640" y="415908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all OSPF routes learned by the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8640" y="5105520"/>
            <a:ext cx="815832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how ip ospf interfac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ype 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4800600"/>
            <a:ext cx="4145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8640" y="5562720"/>
            <a:ext cx="82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splays the OSPF router ID, area ID, and adjacenc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7:42:48Z</dcterms:modified>
  <cp:revision>208</cp:revision>
  <dc:subject>Module 04 Lesson 03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