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wmf" ContentType="image/x-wmf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27640" y="8596440"/>
            <a:ext cx="447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240" y="8774280"/>
            <a:ext cx="260964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50040" bIns="50040" anchor="t">
            <a:spAutoFit/>
          </a:bodyPr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BSCI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8788320"/>
            <a:ext cx="662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Num" idx="1"/>
          </p:nvPr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zh-CN" sz="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DB849649-4BA9-432D-94C5-DBD93EB5026F}" type="slidenum">
              <a:rPr b="0" lang="zh-CN" sz="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865080" y="244440"/>
            <a:ext cx="5315040" cy="39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body"/>
          </p:nvPr>
        </p:nvSpPr>
        <p:spPr>
          <a:xfrm>
            <a:off x="403200" y="4371840"/>
            <a:ext cx="6099120" cy="4246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B810912A-4195-4A42-9042-E6639D48E692}" type="slidenum">
              <a:rPr b="0" lang="zh-CN" sz="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B97EA0A9-8F88-42F5-8785-1B42D81B0739}" type="slidenum">
              <a:rPr b="0" lang="zh-CN" sz="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69F028FE-2C54-4A40-B55D-6AC059AA694B}" type="slidenum">
              <a:rPr b="0" lang="zh-CN" sz="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F8C59945-038C-4C8F-B73F-EAC67D4F5ECF}" type="slidenum">
              <a:rPr b="0" lang="zh-CN" sz="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3D770D9B-5627-4600-83AC-16EA06930CFC}" type="slidenum">
              <a:rPr b="0" lang="zh-CN" sz="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6901C097-2F5D-413D-9496-EEAC929F3F73}" type="slidenum">
              <a:rPr b="0" lang="zh-CN" sz="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E0431681-F045-4F47-924B-C394D3C76A76}" type="slidenum">
              <a:rPr b="0" lang="zh-CN" sz="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57DCDCEC-BE91-40DC-8B1E-44388EBFC962}" type="slidenum">
              <a:rPr b="0" lang="zh-CN" sz="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697DA1E7-C373-4E04-836D-EEB9FC2542D8}" type="slidenum">
              <a:rPr b="0" lang="zh-CN" sz="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4C2699F5-2AA7-4A0C-B77F-B7BED420B83C}" type="slidenum">
              <a:rPr b="0" lang="zh-CN" sz="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A6D81F31-A3B5-4977-823E-23A346101175}" type="slidenum">
              <a:rPr b="0" lang="zh-CN" sz="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C3251F57-FE91-483E-B2F9-F2DC37D8651C}" type="slidenum">
              <a:rPr b="0" lang="zh-CN" sz="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747924D3-9916-4B81-996B-EF6EA0B78D9A}" type="slidenum">
              <a:rPr b="0" lang="zh-CN" sz="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2F97FDD5-7ED2-43A3-A22B-589845676709}" type="slidenum">
              <a:rPr b="0" lang="zh-CN" sz="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F9900A95-B824-4E7F-BC5A-CFC5E8850426}" type="slidenum">
              <a:rPr b="0" lang="zh-CN" sz="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B149E7E1-3D4A-4E14-88F7-91B07F22E9C8}" type="slidenum">
              <a:rPr b="0" lang="zh-CN" sz="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69B45600-6E22-4B3B-8DAB-95E049CF999B}" type="slidenum">
              <a:rPr b="0" lang="zh-CN" sz="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887912E4-5EDB-4438-81EC-4FC1F08C4F4D}" type="slidenum">
              <a:rPr b="0" lang="zh-CN" sz="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08AEE601-1E83-4D1B-B08A-A1A564C6385A}" type="slidenum">
              <a:rPr b="0" lang="zh-CN" sz="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40132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1880" y="485640"/>
            <a:ext cx="866880" cy="457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20920" y="1333440"/>
            <a:ext cx="69498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Building Scalable Cisco Internetwor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839960" y="1255680"/>
            <a:ext cx="5600520" cy="5232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isual Objective for Lab 3-4: Tuning OSPF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09720" y="1289160"/>
            <a:ext cx="7331040" cy="51847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isual Objective for Lab 4-1: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Integrated IS-I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76520" y="1271520"/>
            <a:ext cx="5727600" cy="52610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isual Objective for Lab 5-1: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Basic Redistribu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81200" y="1273320"/>
            <a:ext cx="5722920" cy="52466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isual Objective for Lab 5-2: Tuning Basic Redistribution with Cisco IOS Tool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82680" y="1336680"/>
            <a:ext cx="6737400" cy="51498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isual Objective for Lab 6-1: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Multihome BG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93760" y="1270080"/>
            <a:ext cx="6800760" cy="52261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isual Objective for Lab 6-2: Manipulating BGP Path Selection with Route Map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267680" cy="50911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isual Objective for Lab 6-2: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BGP Peering Sess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76400" y="1314360"/>
            <a:ext cx="5137200" cy="51897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isual Objective for Lab 6-2: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BGP Path Manipul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28920" y="1282680"/>
            <a:ext cx="6180120" cy="5234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isual Objective for Lab 7-1: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Multicast Rout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28920" y="1407960"/>
            <a:ext cx="6389640" cy="28479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isual Objective for Lab 8-1: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IPv6 Address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200" y="4573080"/>
            <a:ext cx="3978360" cy="1336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78000"/>
          </a:bodyPr>
          <a:p>
            <a:pPr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format for the IPv6 addresses used in this lab 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01:0410:000x:z::/64 eui-6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 = Pod numb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 = 1 for fa0/0 between R1 and R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43360" y="4573440"/>
            <a:ext cx="4089240" cy="17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 = 2 for fa0/0 between R2 and 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 = 3 for s0/0/1 between R1 and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 = 4 for s0/0/0 between R3 and 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IPv4 addresses remain in pl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55560" y="3606840"/>
            <a:ext cx="7802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ourse Lab Gu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528920" y="1407960"/>
            <a:ext cx="6389640" cy="28479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isual Objective for Lab 8-2: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nabling IPv6 OSPF Rout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5560" y="4573440"/>
            <a:ext cx="397836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 fontScale="78000"/>
          </a:bodyPr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format for the IPv6 addresses used in this lab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01:0410:000x:z::/64 eui-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 = Pod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 = 1 for fa0/0 between R1 and 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43360" y="4573440"/>
            <a:ext cx="4089240" cy="17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 = 2 for fa0/0 between R2 and 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 = 3 for s0/0/1 between R1 and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 = 4 for s0/0/0 between R3 and 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IPv4 addresses remain in pl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28920" y="1330200"/>
            <a:ext cx="6389640" cy="290196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isual Objective for Lab 8-3: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IPv6 Tunnel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5560" y="4568760"/>
            <a:ext cx="397836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 fontScale="78000"/>
          </a:bodyPr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format for the IPv6 addresses used in this lab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01:0410:000x:z::/64 eui-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 = Pod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 = 1 for fa0/0 between R1 and 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743360" y="4573440"/>
            <a:ext cx="4089240" cy="17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 = 2 for fa0/0 between R2 and 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 = 3 for s0/0/1 between R1 and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 = 4 for s0/0/0 between R3 and 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 = A for tunnel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IPv4 addresses remain in pl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70040" y="1322280"/>
            <a:ext cx="5707080" cy="51721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BSCI Lab Topolog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11160" y="1322280"/>
            <a:ext cx="7158240" cy="51832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Topology for Your Po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95600" y="1322280"/>
            <a:ext cx="5713200" cy="51865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isual Objective for Lab 2-0: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Basic Configur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01640" y="1282680"/>
            <a:ext cx="6032520" cy="52592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isual Objective for Lab 2-1: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and Tuning EIGR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216080" y="1752480"/>
            <a:ext cx="6634080" cy="42926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isual Objective for Lab 3-1: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Single-Area OSPF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85960" y="1271520"/>
            <a:ext cx="5513400" cy="52117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Visual Objective for Lab 3-2: Configuring OSPF for Multiple Areas and Frame Relay Nonbroadca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03520" y="1278000"/>
            <a:ext cx="5684760" cy="52354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Visual Objective for Lab 3-3: Configuring OSPF for Multiple Areas and Frame Relay Point-to-Multipoint and Point-to-Poi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Global Knowledge</dc:creator>
  <dc:description/>
  <dc:language>en-US</dc:language>
  <cp:lastModifiedBy>whccie</cp:lastModifiedBy>
  <cp:lastPrinted>1999-01-27T00:54:54Z</cp:lastPrinted>
  <dcterms:modified xsi:type="dcterms:W3CDTF">2007-01-17T09:20:27Z</dcterms:modified>
  <cp:revision>180</cp:revision>
  <dc:subject>Lab 1.1A</dc:subject>
  <dc:title>BSCI 2.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