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7FF4D3D-97EF-4057-A89A-145D6AC447B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E368CEE-83B8-402E-8C08-F6B871AA9C2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761F839-F691-4E75-9A33-BED5C36CE1A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EAA264C-23BA-4719-8234-6089E8D7B13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43D81E8-EE8C-4650-9F6E-C3E6FD73002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17250F0-3FB6-47DD-8B5B-40F32E9CF26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IS-IS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IS-IS and Integrated IS-IS Ro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Four OSI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ting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v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38240" y="1384200"/>
            <a:ext cx="706752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imilarities Between IS-IS and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and OSPF are both open standard link-state protocols with the following similar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-state representation, aging timers, and LSDB synchron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F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, decision, and flooding proces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LSM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calability of link-state protocols has been prove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used in ISP backbone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y both converge quickly after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6280" y="2030400"/>
            <a:ext cx="6389640" cy="1792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grat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 vs.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P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rea Desig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4352400"/>
            <a:ext cx="7800840" cy="180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SPF is based on a central backbone with all other areas attached t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OSPF the border is inside routers (ABR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h link belongs to one are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76280" y="1835280"/>
            <a:ext cx="6389640" cy="1987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Integrated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 vs.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OSPF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: </a:t>
            </a: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Area Design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28640" y="4250880"/>
            <a:ext cx="7755120" cy="1476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IS-IS the area borders lie on li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h IS-IS router belongs to exactly on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is more flexible when extending the backb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3440" y="1359000"/>
            <a:ext cx="5938920" cy="4402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vantages of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17360" y="5689080"/>
            <a:ext cx="4956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CLNP and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re extensible through TLV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Advantages of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has more features, including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s three area types: normal, stub, and NS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s to scaled metric (IS-IS always 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is supported by many vend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formation, examples, and experienced engineers are easier to fi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is a popular routing protocol in the ISP industr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is a stable, fast-converging IGP that is positioned to route IPv4, CLNS, or IPv6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All IS-IS interfaces have a default metric of 10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S-IS (for CLNS routing only) provides discovery between host and routers using hello packets to form adjacencies. Hosts send ESHs, while routers send ISH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SI defines routing levels 0 through 3. Level 0 is between ES and IS. Levels 1 and 2 are between IS and IS to support intradomain routing. Level 3 supports interdomain routing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4864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Level 1 is intra-area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4864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Level 2 is interarea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74320" indent="-18288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IS-IS and OSPF are both open-standard link-state routing protocols that support VLSM, scalability, and quick convergence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es for 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arge I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abl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riginally deployed by ISPs because U.S. government mandated Internet support of OSI and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=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was originally designed as the IGP for th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nectionless Network Service (CLNS), part of the OSI protocol sui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I protocol suite layer 3 protocol is the Connectionless Network Protocol (CLNP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uses CLNS addresses to identify routers and buil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LSD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nk-state routing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VL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Dijkstra’s SPF algorithm; has fast converg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hellos to establish adjacencies and LSPs to exchange link-state infor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fficient use of bandwidth, memory, and proces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pports two routing leve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: Builds common topology of system IDs in local area and routes within area using lowest cost path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: Exchanges prefix 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area addresses) between areas. Routes traffic to area using lowest-cost pat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48000" y="1347840"/>
            <a:ext cx="4221000" cy="2873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23960" y="4168800"/>
            <a:ext cx="800100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ters are identified as Level 1, Level 2, or Level 1-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 routers use LSPs to build topology for local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2 routers use LSPs to build topology betwe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evel 1-2 routers act as border routers between Level 1 and Level 2 routing dom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-IS Link-State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(or Dual) IS-IS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IS-IS is IS-IS for multiple protocol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IP, CLNS, or bo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its own PDUs to transport IP routing information; updates not sent in IP pack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quires CLNS addresses, even if only routing fo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79480" y="1281240"/>
            <a:ext cx="5759640" cy="3112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30120" y="4203720"/>
            <a:ext cx="457200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 and CLNP address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ust be plan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e two-level hierarch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scalabi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s LSP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vides opportunit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 summa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49840" y="4203720"/>
            <a:ext cx="4038480" cy="12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ummariz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imits update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0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imizes rout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mory and CPU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grated IS-IS Design Princip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sues with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7080" y="3763800"/>
            <a:ext cx="7940520" cy="213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narrow metrics are limited to 6-bit interface 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-bit path me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Cisco IOS Software Relase 12.0, wide metrics allow 24-bit interface and 32-bit path metri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IOS software has default metric of 10 on all 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0320" y="1943280"/>
            <a:ext cx="5426280" cy="13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d System-to-Intermediate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4214880"/>
            <a:ext cx="7940880" cy="216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-IS forms adjacencies between ESs and routers (ISs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end-systems do not use ES-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Ss transmit ESHs to announce their presence to I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 transmit ISHs to announce their presence to 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s transmit IIHs to other I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22400" y="1335240"/>
            <a:ext cx="5299200" cy="273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54:18Z</dcterms:modified>
  <cp:revision>208</cp:revision>
  <dc:subject>Module 05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