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F17BD-B9A3-4101-BDAE-832CE6709825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884760" y="-1440"/>
            <a:ext cx="29764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-3240" y="-1440"/>
            <a:ext cx="29736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243080" y="56340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858960" y="3997080"/>
            <a:ext cx="5160960" cy="43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2286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rot="10800000">
            <a:off x="8756640" y="-9720"/>
            <a:ext cx="387360" cy="3776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061480" y="6377040"/>
            <a:ext cx="1082520" cy="48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454120"/>
            <a:ext cx="9144000" cy="44038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5200" y="2951280"/>
            <a:ext cx="77979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13669" r="0" b="64133"/>
          <a:stretch/>
        </p:blipFill>
        <p:spPr>
          <a:xfrm>
            <a:off x="0" y="0"/>
            <a:ext cx="9140760" cy="2536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Module Summar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sing multiple IP routing protocols can be a result of migrating to a more advanced routing protocol, a multivendor environment, political boundaries, or device mismatch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oute redistribution is possible between any two IP routing protocol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t is necessary to use filters and modify administrative distance during redistribu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 Cisco IOS device can be configured as a DHCP server, relay agent, or clien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476440" y="2076480"/>
            <a:ext cx="4381560" cy="2590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4T04:30:47Z</dcterms:created>
  <dc:creator> </dc:creator>
  <dc:description/>
  <dc:language>en-US</dc:language>
  <cp:lastModifiedBy>whccie</cp:lastModifiedBy>
  <dcterms:modified xsi:type="dcterms:W3CDTF">2007-01-17T08:45:23Z</dcterms:modified>
  <cp:revision>66</cp:revision>
  <dc:subject/>
  <dc:title>Layers in the Hierarchical Model</dc:title>
</cp:coreProperties>
</file>