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2.2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C0405D2-0EAF-4C4B-B3C1-4F6B20108E6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FCE4A19-62A8-4D8A-90E9-EE0F3D3FB9E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591CEF5-64BF-4EB2-87A9-9655E2EA8BD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C939D3A-5C8B-4AE3-BDBC-DE7F7719F9E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5523B09-B8AA-40EF-9B01-17020284E38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BG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Using Route Maps to Manipulate Basic BGP Path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1447920"/>
            <a:ext cx="6896160" cy="4952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for Router 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3880"/>
            <a:ext cx="66294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A’s Configur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001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2.2.2.2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2.2.2.2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8.1 remote-as 65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8.1 route-map med_65004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6 permit 192.168.25.0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6 permit 192.168.26.0.0 0.0.0.25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ed_65004 permit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ip address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ed_65004 permit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88840" y="1530360"/>
            <a:ext cx="6972480" cy="4641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for Router B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600200"/>
            <a:ext cx="6629400" cy="44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B’s Configur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00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.1.1.1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.1.1.1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72.20.50.1 remote-as 65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72.20.50.1 route-map med_65004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6 permit 192.168.24.0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ed_65004 permit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ip address 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ed_65004 permit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1409760"/>
            <a:ext cx="8686800" cy="3263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ED Learned by Router Z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1960" y="1411200"/>
            <a:ext cx="86234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Z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7, local router ID is 122.30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us codes: s suppressed, d damped, h history, * valid, &gt; best, i - internal, r RIB-failure, S S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rigin codes: i - IGP, e - EGP, ? - in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Next Hop       Metric LocPrf Weigh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92.168.24.0     172.20.50.2      1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92.168.28.2     2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92.168.25.0     172.20.50.2      2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2     1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92.168.26.0     172.20.50.2      2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2     100    100       0 65001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768920"/>
            <a:ext cx="876276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Examine the networks that have been learned from AS 65001 on Router Z in AS 65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For all networks: Weight is equal (0); local preference is equal (100); routes are not originated in this AS; AS path is equal (65001); origin code is equal (i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92.168.24.0 has a lower metric (MED) through 172.20.50.2 (100) than 192.168.28.2 (20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92.168.25.0 has a lower metric (MED) through 192.168.28.2 (100) than 172.20.50.2 (20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92.168.26.0 has a lower metric (MED) through 192.168.28.2 (100) than 172.20.50.2 (200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1880" y="1738440"/>
            <a:ext cx="8220240" cy="4219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5560" y="225360"/>
            <a:ext cx="8145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in an Enterpri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lvl="1" marL="29844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BGP local preference attribute can be changed to manipulate the best-path decision process, either for all routes or for selected routes using route map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gher local preference values are prefe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al preference is used only between IBGP speakers within the same 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MED values can be changed to manipulate packet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turning to an AS, either for all routes or for selected routes, using route maps.      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wer MED values are prefer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MED is sent to EBGP neighbors; those routers propagate the MED within their AS. The routers within the AS use the MED but do not pass it on to the next 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s in a typical enterprise BGP implementation multihome to two ISPs and pass default routes to other routers within the enterpri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76520" y="4846680"/>
            <a:ext cx="60958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designed for manipulating routing p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Is Designed to Implement Policy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73280" y="2246400"/>
            <a:ext cx="759744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hanging BGP Local Preference For All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5320" y="38498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bgp default local-preferenc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5320" y="3505320"/>
            <a:ext cx="394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5320" y="4308480"/>
            <a:ext cx="822960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changes the default local preferen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s advertised to an IBGP neighbor have the local preference set to the value specif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5320" y="1476360"/>
            <a:ext cx="8229600" cy="18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cal preference is used in these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in an AS between IBGP spe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determine the best path to exit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to reach an outsid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 to 100 by default; higher values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8600" y="1473120"/>
            <a:ext cx="8763120" cy="3962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11360" y="5575320"/>
            <a:ext cx="7708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at is the best path for router C to 65003, 65004, and 65005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ocal Preference Case Stud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2280" y="1371600"/>
            <a:ext cx="883944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r C BGP Table with Default Setting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403280"/>
            <a:ext cx="88390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C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7, local router ID is 3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us codes: s suppressed, d damped, h history, * valid, &gt; best, i - internal,  r RIB-failure, S S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rigin codes: i - IGP, e - EGP, ? - in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Next Hop       Metric LocPrf Weigh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72.16.0.0       172.20.50.1             100       0 65005 65004 65003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1            100       0 65002 65003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72.24.0.0       172.20.50.1             100       0 65005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92.168.28.1            100       0 65002 65003 65004 65005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72.30.0.0       172.20.50.1             100       0 65005 65004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92.168.28.1            100       0 65002 65003 65004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7840" y="4799160"/>
            <a:ext cx="8763120" cy="15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14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By default, BGP selects the shortest AS path as the best (&gt;) path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14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In AS 65001, the percentage of traffic going to 172.24.0.0 is 30%, 172.30.0.0 is 20%, and 172.16.0.0 is 10%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14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50% of all traffic will go to the next hop of 172.20.50.1 (AS 65005), and 10% of all traffic will go to the next hop of 192.168.28.1 (AS 65002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14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Make traffic to 172.30.0.0 select the next hop of 192.168.28.1 to achieve load sharing where both external links get approximately 30% of the loa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08240" y="1752480"/>
            <a:ext cx="6705360" cy="441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for Router 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3120" y="1930320"/>
            <a:ext cx="6388200" cy="40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001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2.2.2.2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remote-as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2.2.2.2 remote-as 65001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3.3.3.3 remote-as 65001 update-sour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8.1 remote-as 65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8.1 route-map local_pref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5 permit 172.30.0.0 0.0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local_pref permit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ip address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local-preference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local_pref permi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5520" y="1295280"/>
            <a:ext cx="40557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er A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371600"/>
            <a:ext cx="8839440" cy="327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r C BGP Table with Local Preference Learn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373040"/>
            <a:ext cx="8763120" cy="34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C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7, local router ID is 3.3.3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us codes: s suppressed, d damped, h history, * valid, &gt; best, i - internal,  r RIB-failure, S S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rigin codes: i - IGP, e - EGP, ? - in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Next Hop       Metric LocPrf Weigh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72.16.0.0       172.20.50.1             100       0 65005 65004 65003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1            100       0 65002 65003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72.24.0.0       172.20.50.1             100       0 65005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92.168.28.1            100       0 65002 65003 65004 65005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172.30.0.0       172.20.50.1             100       0 65005 65004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                 192.168.28.1        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4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0 65002 65003 65004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749840"/>
            <a:ext cx="861048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est (&gt;) paths for networks 172.16.0.0/16 and 172.24.0.0/16 have not chang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est (&gt;) path for network 172.30.0.0 has changed to a new next hop of 192.168.28.1 because the next hop of 192.168.28.1 has a higher local preference, 40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 AS 65001, the percentage of traffic going to 172.24.0.0 is 30%, 172.30.0.0 is 20%, and 172.16.0.0 is 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612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% of all traffic will go to the next hop of 172.20.50.1 (AS 65005), and 30% of all traffic will go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next hop of 192.168.28.1 (AS 65002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hanging BGP MED for All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3830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fault-metric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038480"/>
            <a:ext cx="371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42000"/>
            <a:ext cx="8229600" cy="11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91960" indent="-177480">
              <a:lnSpc>
                <a:spcPct val="10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D is considered the metric of BG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-177480">
              <a:lnSpc>
                <a:spcPct val="10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s that are advertised to an EBGP neighbor are set to the value specified using this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447920"/>
            <a:ext cx="800100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D is used when multiple paths exist between two autonomous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lower MED value is prefer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efault setting for Cisco is MED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metric is an optional, nontransitive attribu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ually, MED is shared only between two autonomou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ystems that have multiple EBGP connections 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Using Route Maps and the M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600" y="2057400"/>
            <a:ext cx="8415360" cy="3365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59:08Z</dcterms:modified>
  <cp:revision>202</cp:revision>
  <dc:subject>Module 07 Lesson 06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