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76C610F-C58F-4066-8A50-2F4C259CAF3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B503CF1-CC76-4FE6-BAEC-C59CA9B5519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50664D8-2027-47AE-9540-5A045E2E53D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7DF1744-BEE8-474C-8298-785344E38415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8A07558-7719-417E-AE57-2D5501BE08A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Authent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1 Configuration for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20840" y="1308240"/>
            <a:ext cx="6248520" cy="5181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3120" y="1308240"/>
            <a:ext cx="601992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chain R1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firs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04:01:00 Jan 1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second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72.16.1.1 255.255.255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dwidth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1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mode eigrp 100 m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key-chain eigrp 100 R1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72.16.1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to-summ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Configuration for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11280" y="1295280"/>
            <a:ext cx="6019920" cy="518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3560" y="1295280"/>
            <a:ext cx="533412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chain R2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first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key-string second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-lifetime 04:00:00 Jan 1 2006 infi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-lifetime 04:00:00 Jan 1 2006 infini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72.17.2.2 255.255.255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dwidth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mode eigrp 100 m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uthentication key-chain eigrp 100 R2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72.17.2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uto-summ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360" y="1295280"/>
            <a:ext cx="8597880" cy="518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040" y="1330200"/>
            <a:ext cx="828684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23:30.517: %DUAL-5-NBRCHANGE: IP-EIGRP(0) 100: Neighbor 192.168.1.102 (Serial0/0/1) is up: new adjac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EIGRP neighbor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  Address                 Interface       Hold Uptime   SRTT   RTO  Q  S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c)         (ms)       Cnt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192.168.1.102           Se0/0/1           12 00:03:10   17  2280  0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show ip ro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   172.17.0.0/16 [90/40514560] via 192.168.1.102, 00:02:22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72.16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      172.16.0.0/16 is a summary, 00:31:31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72.16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0/24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       192.168.1.96/27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       192.168.1.0/24 is a summary, 00:31:31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#ping 172.17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ype escape sequence to ab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ding 5, 100-byte ICMP Echos to 172.17.2.2, timeout is 2 second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!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cess rate is 100 percent (5/5), round-trip min/avg/max = 12/15/16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4160" y="1612800"/>
            <a:ext cx="8686800" cy="419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30120" y="1689120"/>
            <a:ext cx="8286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4160" y="1612800"/>
            <a:ext cx="883908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1#debug eigrp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RP Packe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PDATE, REQUEST, QUERY, REPLY, HELLO, IPXSAP, PROBE, ACK, STUB, SIAQUERY, SIARE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51.745: EIGRP: received packet with MD5 authentication, key id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51.745: EIGRP: Received HELLO on Serial0/0/1 nbr 192.168.1.1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51.745:   AS 100, Flags 0x0, Seq 0/0 idbQ 0/0 iidbQ un/rely 0/0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Q un/rely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2#debug eigrp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RP Packe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PDATE, REQUEST, QUERY, REPLY, HELLO, IPXSAP, PROBE, ACK, STUB, SIAQUER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ARE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38.321: EIGRP: received packet with MD5 authentication, key id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38.321: EIGRP: Received HELLO on Serial0/0/1 nbr 192.168.1.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38:38.321:   AS 100, Flags 0x0, Seq 0/0 idbQ 0/0 iidbQ un/rely 0/0 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rQ un/rely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roubleshooting MD5 Authentication Probl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3040" y="1905120"/>
            <a:ext cx="8763120" cy="457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3040" y="1981080"/>
            <a:ext cx="891540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(config-if)#key chain R1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1(config-keychain)#ke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1(config-keychain-key)#key-string wrong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92b38"/>
                </a:solidFill>
                <a:latin typeface="Courier New"/>
                <a:ea typeface="Times New Roman"/>
              </a:rPr>
              <a:t>R2#debug eigrp pac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IGRP Packets debugging is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UPDATE, REQUEST, QUERY, REPLY, HELLO, IPXSAP, PROBE, ACK, STUB, SIAQUERY, SIAREP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pkt key id = 2, authentication mism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Serial0/0/1: ignored packet from 192.168.1.101, o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de = 5 (invalid authent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Dropping peer, invalid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EIGRP: Sending HELLO on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49:   AS 100, Flags 0x0, Seq 0/0 idbQ 0/0 iidbQ un/rely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Jan 21 16:50:18.753: %DUAL-5-NBRCHANGE: IP-EIGRP(0) 100: Neighbor 192.168.1.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rial0/0/1) is down: Auth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EIGRP neighbor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2#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7080" y="12193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 on both R1 and R2, but R1 key 2 (that it uses when sending)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re are two types of router authentication: simple password and MD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hen EIGRP authentication is configured, the router generates and checks every EIGRP packet and authenticates the source of each routing update packet that it receives. EIGRP supports MD5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 configure MD5 authentication,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authentication mode eig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authentication key-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nterface commands. The key chain must also be configured, starting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ch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2120" indent="-20772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bug eigrp packe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o verify and troubleshoot MD5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er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2000"/>
          </a:bodyPr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any routing protocols support authentication such that a router authenticates the source of each routing update packet that it recei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authentication is supported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-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Pv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116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 is supported b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SPF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IP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G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2320" indent="-18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imple Password vs.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imple password authentic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sends packet and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checks whether key matches its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 not sec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D5 authentication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key (password) and key ID; router generates a message digest, or hash, of the key, key ID and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essage digest is sent with packet; key is not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cess OS sec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supports MD5 authentic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nd checks every EIGRP packet. Router authenticates the source of each routing update packet that it receiv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figure a key (password) and key ID; each participating neighbor must have same key config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IGRP MD5 authentic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generates a message digest, or hash, of the key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ID, and messa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allows keys to be managed using key chai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y key ID (number), key, and lifetime of ke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rst valid activated key, in order of key numbers, is u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MD5 Authent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5960" y="205740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authentication mode eigr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md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17524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2514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ecifies MD5 authentication for EIGR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27672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if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581280"/>
            <a:ext cx="82296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ip authentication key-chain eigrp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-of-cha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44956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ables authentication of EIGRP packets using key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MD5 Authentic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5960" y="2057400"/>
            <a:ext cx="815328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 chain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name-of-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7524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960" y="2514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ters configuration mode fo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9718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276720"/>
            <a:ext cx="822960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-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3733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ies key and enters configuration mode for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MD5 Authentication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52388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-key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828800"/>
            <a:ext cx="8229600" cy="366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key-string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86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ies key string (passwo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7432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-key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048120"/>
            <a:ext cx="82296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accept-lifetim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art-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{infinite |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nd-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duratio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3809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: Specifies when key will be accepted for received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4572000"/>
            <a:ext cx="453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ter(config-keychain-key)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876920"/>
            <a:ext cx="8229600" cy="64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nd-lifetim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tart-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{infinite |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end-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| duration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seco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6386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onal: Specifies when key can be used for send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2624040"/>
            <a:ext cx="8024760" cy="897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MD5 Authentication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6:48:27Z</dcterms:modified>
  <cp:revision>201</cp:revision>
  <dc:subject>Module 04 Lesson 08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