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87FE87C-09B4-46DD-BC5F-47804EA777A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A96394E-E851-427B-80A6-89D94B064DF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F9C2C1-04CA-482D-A963-DC616D33CB0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F9E24A7-BFC0-4834-B529-4669308AD7D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86C17B5-A9DA-4BB7-A9CC-846CDC5A6EB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3BB072-6588-44DA-996C-01A62988817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F0EA271-6FE0-4612-886B-8A2FC36C43A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B667B56-9201-40E0-99F8-C6FE69A65FD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plaining EBGP and IBG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38320" y="1536840"/>
            <a:ext cx="6842160" cy="2232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eers = Neighb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1560" y="4114800"/>
            <a:ext cx="7940880" cy="2395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“BGP peer,” also known as a “BGP neighbor,” is a specific term that is used for BGP speakers that have established a neighbor relationship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y two routers that have formed a TCP connection to exchange BGP routing information are called BGP peers or BGP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81800" cy="3421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ternal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1560" y="5105160"/>
            <a:ext cx="794088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BGP is running between neighbors that belong to different autonomous systems, it is called E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BGP neighbors, by default, need to be directly connec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1406520"/>
            <a:ext cx="6273720" cy="3470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rnal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1560" y="5029200"/>
            <a:ext cx="7940880" cy="1447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BGP is running between neighbors within the same AS, it is called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neighbors do not have to be directly connec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7800" y="1468440"/>
            <a:ext cx="7988400" cy="30304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BGP in a Transit AS (ISP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3640" y="5028840"/>
            <a:ext cx="7940880" cy="1219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istributing BGP into an IGP (OSPF in this example) is not recomme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tead, run IBGP on all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0960" cy="425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BGP in a NonTransit 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040" y="5791320"/>
            <a:ext cx="83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lvl="1" marL="45720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 default, routes learned via IBGP are never propagated to other IBGP peers, so they need full-mesh IBG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0160" y="1521000"/>
            <a:ext cx="7481880" cy="24937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Issues If BGP Not on in All Routers in Transit Pat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419720"/>
            <a:ext cx="7940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50000"/>
          </a:bodyPr>
          <a:p>
            <a:pPr lvl="1" marL="171360" indent="-11412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will drop the packet to network 10.0.0.0. Router C is not running IBGP; therefore, it has not learned about the route to network 10.0.0.0 from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1412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this example, router B and router E are not redistributing BGP into OSP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1360" indent="-11412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key terms to describe relationships between routers running BGP ar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speaker, or BGP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peer, or neighb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BGP and EBG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BGP neighbors are directly connected routers in different autonomous system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BGP neighbors are routers in the same AS that are reachable by static routes or a dynamic internal routing protoco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the transit path within an AS should ru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ully meshed IBG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50:11Z</dcterms:modified>
  <cp:revision>156</cp:revision>
  <dc:subject>Module 07 Lesson 02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