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892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08720" y="8796240"/>
            <a:ext cx="460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80" y="8978760"/>
            <a:ext cx="26859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51480" bIns="51480" anchor="t">
            <a:spAutoFit/>
          </a:bodyPr>
          <a:p>
            <a:pPr>
              <a:tabLst>
                <a:tab algn="l" pos="0"/>
                <a:tab algn="l" pos="2441520"/>
                <a:tab algn="l" pos="494028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41520"/>
                <a:tab algn="l" pos="494028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320" y="8993160"/>
            <a:ext cx="681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9929E21-DC76-46E1-BC00-F1741E3D0D37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906480" y="250920"/>
            <a:ext cx="5437080" cy="407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14360" y="4473360"/>
            <a:ext cx="6276960" cy="4344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480" bIns="514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5295E12-FAFD-4BD3-9047-8EDB27B37E0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E338EFA-B94B-4BF7-9150-1CA3E62B38D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B8F8FD9-63F1-4143-A909-DE49F75EBF22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D35AC06-17BC-49B3-833C-806C345B6173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04BBC04-E132-4CE4-9AF7-786ABBC59A7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DBC7314-8EFA-49C1-80BE-3CC11B4AB8E7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4F0417A-B8D1-4A75-89CB-54C06D9CF927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D4A788A-EF0E-4606-9716-63DBA2AEE2BE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70520" y="-1440"/>
            <a:ext cx="3120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3240" y="-1440"/>
            <a:ext cx="3116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25F076A-DA26-4F80-9772-A4F5CE87B9B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BBA51E6-8665-4963-9BAC-567D6FD4CF6B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4CFCBB0-B77C-4683-8576-007A8D4EBE14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0DFD38B-4D64-4930-AC17-88255B541252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42466AF-DEEA-41FD-8CAA-4F82B84AB39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 Special Area Typ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ing Table in a Standard Are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689120"/>
            <a:ext cx="8216640" cy="4305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00" y="1720800"/>
            <a:ext cx="805176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1R3#sh ip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Gateway of last resort is n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31.0.0/32 is subnetted, 4 sub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22.4 [110/782] via 10.1.1.1, 00:02:44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11.1 [110/1] via 10.1.1.1, 00:02:44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11.2 [110/782] via 10.1.3.4, 00:02:52,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[110/782] via 10.1.1.1, 00:02:52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11.4 [110/782] via 10.1.1.1, 00:02:44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0.0.0/8 is variably subnetted, 7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1.0.0/24 [110/782] via 10.1.1.1, 00:03:22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200.200.13/32 is directly connected,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1.3.0/24 is directly connected,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.2.0/24 [110/782] via 10.1.3.4, 00:03:23,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1.1.0/24 is directly connected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.0.0/24 [110/782] via 10.1.1.1, 00:03:23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E2    10.254.0.0/24 [110/50] via 10.1.1.1, 00:02:39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1R3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ing Table in a Stub Are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689120"/>
            <a:ext cx="8216640" cy="4305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1360" y="5372280"/>
            <a:ext cx="6705360" cy="17748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200" y="2387520"/>
            <a:ext cx="5765760" cy="21600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3200" y="1720800"/>
            <a:ext cx="805176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1R3#sh ip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Gateway of last resort is 10.1.1.1 to network 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31.0.0/32 is subnetted, 4 sub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22.4 [110/782] via 10.1.1.1, 00:01:49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11.1 [110/1] via 10.1.1.1, 00:01:49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11.2 [110/782] via 10.1.3.4, 00:01:49,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[110/782] via 10.1.1.1, 00:01:49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11.4 [110/782] via 10.1.1.1, 00:01:49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0.0.0/8 is variably subnetted, 6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1.0.0/24 [110/782] via 10.1.1.1, 00:01:50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200.200.13/32 is directly connected,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1.3.0/24 is directly connected,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.2.0/24 [110/782] via 10.1.3.4, 00:01:50,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1.1.0/24 is directly connected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.0.0/24 [110/782] via 10.1.1.1, 00:01:50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*IA 0.0.0.0/0 [110/2] via 10.1.1.1, 00:01:51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1R3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35040" y="3022560"/>
            <a:ext cx="7810560" cy="21600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ing Table in a Stub Area with Summariz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689120"/>
            <a:ext cx="8216640" cy="4305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3022560"/>
            <a:ext cx="7645320" cy="22860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4724280"/>
            <a:ext cx="6692760" cy="21600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3200" y="2387520"/>
            <a:ext cx="5765760" cy="21600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00" y="1720800"/>
            <a:ext cx="805176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1R3#sh ip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Gateway of last resort is 10.1.1.1 to network 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31.0.0/16 is variably subnetted, 2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22.4/32 [110/782] via 10.1.1.1, 00:13:08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11.0/24 [110/1] via 10.1.1.1, 00:02:39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0.0.0/8 is variably subnetted, 6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1.0.0/24 [110/782] via 10.1.1.1, 00:13:08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200.200.13/32 is directly connected,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1.3.0/24 is directly connected,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.2.0/24 [110/782] via 10.1.3.4, 00:13:09,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1.1.0/24 is directly connected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.0.0/24 [110/782] via 10.1.1.1, 00:13:09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*IA 0.0.0.0/0 [110/2] via 10.1.1.1, 00:13:09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1R3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ing Table in a Totally Stubby Are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1689120"/>
            <a:ext cx="8216640" cy="4305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102200"/>
            <a:ext cx="6718320" cy="19044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3200" y="2387520"/>
            <a:ext cx="5765760" cy="21600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3200" y="1720800"/>
            <a:ext cx="8051760" cy="28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1R3#sh ip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Gateway of last resort is 10.1.1.1 to network 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0.0.0/8 is variably subnetted, 6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1.0.0/24 [110/782] via 10.1.1.1, 00:16:53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200.200.13/32 is directly connected, Loopback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1.3.0/24 is directly connected,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.2.0/24 [110/782] via 10.1.3.4, 00:16:53,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1.1.0/24 is directly connected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.0.0/24 [110/782] via 10.1.1.1, 00:16:53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*IA 0.0.0.0/0 [110/2] via 10.1.1.1, 00:00:48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1R3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1665360"/>
            <a:ext cx="6326280" cy="2373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12880" y="4267080"/>
            <a:ext cx="375912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SSA breaks stub area r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BR (R1) is allowed in NS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pecial LSA type 7 defined, sent by ASB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4267080"/>
            <a:ext cx="4127760" cy="22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BR (R2) converts LSA type 7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 LSA type 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BR sends default route into NSSA instead of external routes from other ASB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SSA is an RFC addend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Not-So-Stubby Are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79320" y="1828800"/>
            <a:ext cx="8159760" cy="100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rea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rea-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nss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[no-redistribution] [default-information-originate [metric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metric-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] [metric-type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type-valu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]] [no-summary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3276720"/>
            <a:ext cx="8229600" cy="12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this command instead of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 st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to define the area as NS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no-summ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keyword creates an NSSA totally stubby area; this is a Cisco proprietary fe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NSSA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8240" y="1481040"/>
            <a:ext cx="33015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A(config-router)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000" y="1898640"/>
            <a:ext cx="8308800" cy="3724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NSSA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74760" y="1908000"/>
            <a:ext cx="8572320" cy="36766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NSSA Totally Stubby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5080" y="5759280"/>
            <a:ext cx="874224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SSA totally stubby area is a Cisco proprietary fe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44400" y="1704960"/>
            <a:ext cx="7823160" cy="67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how ip osp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4400" y="2163600"/>
            <a:ext cx="8229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which areas are normal, stub, or N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how Commands for Stub and NSS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400" y="2935440"/>
            <a:ext cx="789624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how ip ospf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400" y="3378240"/>
            <a:ext cx="8229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details of LS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400" y="4189320"/>
            <a:ext cx="789624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how ip ospf database nssa-external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400" y="4640400"/>
            <a:ext cx="8229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specific details of each LSA type 7 update i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400" y="5410080"/>
            <a:ext cx="789624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how ip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4400" y="5869080"/>
            <a:ext cx="8229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all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120" y="1387440"/>
            <a:ext cx="1122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5120" y="2630520"/>
            <a:ext cx="1122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5120" y="3884760"/>
            <a:ext cx="1122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5120" y="5105520"/>
            <a:ext cx="1122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0520" y="225000"/>
            <a:ext cx="81421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1560" y="1643040"/>
            <a:ext cx="8237520" cy="4376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lvl="1" marL="332640" indent="-2214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re are several OSPF area types: standard, backbone, stub, totally stubby, and NSS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2214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-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st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to define an area as stubb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2214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-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st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with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-summ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keyword on the ABR only to define an area as totally stubb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2214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r stub areas, external routes are not visible in the routing table, but are accessible via the intra-area default route. For totally stubby areas, interarea and external routes are not visible in the routing table, but are accessible via the intra-area default rout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2214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-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nss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to define an area as NSS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221400">
              <a:lnSpc>
                <a:spcPct val="90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osp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ospf datab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rou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s to verify all types of stub areas. 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ospf database nssa-extern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mand to display details of type 7 LS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578640" cy="4852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ypes of Are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tub and Totally Stub Area Ru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 area can be stub or totally stub if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re is a single ABR, or if there is more than one ABR, suboptimal routing paths to other areas or external autonomous systems are accept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routers in the area are configured as stub rout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re is no ASBR in the are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area is not area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 virtual links go through the are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62240" y="1363680"/>
            <a:ext cx="6743520" cy="5108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280" y="2209680"/>
            <a:ext cx="259092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100000"/>
              </a:lnSpc>
              <a:spcBef>
                <a:spcPts val="1250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ternal LS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 sto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1250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 rout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 advertis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o stub are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y the AB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Bef>
                <a:spcPts val="1250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routers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 50 mus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e configur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stu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Stub Are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tub Area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0720" y="2181240"/>
            <a:ext cx="815976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rea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rea-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stub [no-summar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66688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ommand turns on stub area networ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routers in a stub area must 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t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752480"/>
            <a:ext cx="430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outerA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720" y="4071960"/>
            <a:ext cx="815976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rea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rea-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default-cos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4665600"/>
            <a:ext cx="822960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ommand defines the cost of a default route sent into the stub are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default cost is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9640" y="3733920"/>
            <a:ext cx="33015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A(config-router)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4480" y="1498680"/>
            <a:ext cx="8856360" cy="48099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SPF Stub Area Configuration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97040" y="1449360"/>
            <a:ext cx="6396120" cy="48452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600" y="1523880"/>
            <a:ext cx="2514600" cy="47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ternal LS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 sto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mmary LS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 sto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ing tab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 reduced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minim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routers mu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e configur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 stu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BR must b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figured a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tally stub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is a Cisc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prietary fe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Totally Stubby Are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79320" y="1828800"/>
            <a:ext cx="815976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rea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rea-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stub no-summary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2438280"/>
            <a:ext cx="822960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addition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-summ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n the ABR creates a totally stubby area and prevents all summary LSAs from entering the stub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otally Stubby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8240" y="1481040"/>
            <a:ext cx="33015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A(config-router)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11400" y="1676520"/>
            <a:ext cx="6719760" cy="44686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otally Stubby Configuration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7:46:57Z</dcterms:modified>
  <cp:revision>189</cp:revision>
  <dc:subject>Module 04 Lesson07</dc:subject>
  <dc:title>BSCI v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