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dt" idx="3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ftr" idx="3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 type="sldNum" idx="3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F4DB-0621-40B8-A94C-020044C9231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9D99-7E07-4CB8-B5B1-57E9A258114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8595A-26EB-4081-9745-4B33B300C9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7CE81-0DD4-4B0D-B958-27C57094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197E1C-5EAE-4E80-BA27-3E22C1A9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4FBD9E-7957-4571-A771-7FD23D72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6BDCA0-CF53-41E2-9169-321ED344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423CA0-11F5-43C6-ABF5-94A6785F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E95A50-CFFF-410B-B83F-82AC5D54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A33ECE-9092-4159-88B7-92026212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60E57D-CBEE-43D8-AF86-A831A5F7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43555E-FD39-4779-AA6B-45B3C1190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F14D2B-FD00-4D1E-BF20-DB83B1201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BDC117-4CD7-440D-B6FB-5D3C4B7BA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D9018-2B02-4ED2-B66A-666618E0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600B80-F77C-4C93-BA27-13CD2FC0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49A116-D732-42E1-8787-C6B2E534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F986A3-D118-482C-9314-14F4BA03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65B3F3-5466-4893-A4F8-AC4A574C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AE4A62-C7E9-43AE-924A-B8AFE1D0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A5DA0F-973B-4ED4-8808-447E8E02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D5CB26-F037-4460-A9EC-2CA6A9CB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E74408-50E3-45C0-B3A4-94630705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326F59-C468-4AC3-A304-6AD7EC6C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1388277-EEB1-4E7B-BC4E-070173F33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1E076-2851-40E8-98F9-D98169D105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E6BB58-EB31-4C15-8285-ACB4E4B75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7502CCA-C09C-48BF-9E30-341D9699A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E9C250B-CA83-4E36-B440-2EA1717E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4C19E19-D08A-4BFF-882B-AC8F3A5C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CF7975-880F-4F79-8F37-68A8527A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8FFB7B2-5D08-4054-90F8-FD8146A1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6E5FB09-5F47-48F0-AB23-B113240D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F7B43EF-A915-4358-83F2-689AF655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550553-ED6F-4295-A191-ED79C9C5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89FDDCE-725C-4F8E-BA1C-C081EC0A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FA923-BBAB-4F94-B78F-DD079F0C3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D388B6-C48B-4B71-B316-312B517D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FFD0582-84DB-4709-A250-FECFFA26A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3F1B302-E421-40EB-B365-B58F12595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B1AC67-4260-4420-804E-9B68E5F1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DEB72D-2951-49ED-9F8E-13C8747C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68135-0165-4F38-A611-2A5947B8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F721F-B761-4B45-9FDF-BB4200FD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79AC8-556F-4D06-A9B1-47784063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9340E-8B5F-4A49-8679-8FAA8E6D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FCCBB-0200-492C-B713-45617FE6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5BCF2D-9DE7-49AA-874D-4CFD8522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CCEB6-8DAA-4448-899C-61CBE3E9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CCF29C-0DF8-4F83-BCDF-4634756F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5DDFF-6E39-41DB-83C6-2CA5D0473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8DC44-6E06-484E-9FFB-438E80554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94D153-D28F-4B50-BA03-CD217C9D9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C5A965-3999-4075-87F9-49F4912B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532832-8F68-4ECB-BF74-1F8F1A30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8F20BC-AC0A-4801-81A1-C6ADBADF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D98C2E-3256-453F-99C3-275947D0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C26F2-A509-4CE7-BC49-C901AF70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62688A-82FB-4E78-A52A-B24267AC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1F504D-F306-4F3D-B826-0C8790DE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34478D-9D3D-42CD-94D2-6F304E70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9BBA41-EBF8-421C-B210-07081596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F00B1B-B7A9-4D48-8342-E62997E6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41FAA1-40BA-400B-892B-D5B8F56A8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9046DF-F1ED-4823-9241-FA5B49EDC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484104-3858-4847-8A43-6A881FF96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B32B50-EAB3-47F4-9584-6DFB475C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A84FB9-D67B-4653-9C3F-070AF3A0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6B02D-91F6-4F6E-9A86-CEF627EB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89440A-2331-439D-967C-00E35829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217F5D-3EED-4ABF-8FD9-996F5F8B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E2C897-4B31-414D-B53B-87E2F24C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DE6E9E-3E45-41C2-B002-76D48FAA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2C5523-4855-4FE9-8746-11D4814F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8B1836-8517-4C12-AB8F-C4D920B6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F08512-4E56-46D6-830C-EA907DD7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4457EF-1DA0-4A84-8984-D8D0444E6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FC601E-2F69-4713-99BA-58A5BDF4A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EDECAB-CB1C-44E1-8E71-B64D91FA6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CE73C-10EC-46FA-A9BF-F2D0708DA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4A6FA2-200A-419B-AC9B-F50E2B24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4A955C-5D97-4B77-8F2A-36E15655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843725-CB5C-4039-AE47-29F302EE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87396C-6060-4A92-A796-EDFD8241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CC8083-82A9-4BD2-8602-9AF40DE0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677535-B26F-4555-9C7C-10C70908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FB635A-D4F5-4FEC-A6AA-7D31B539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A57E97-3363-40D9-8159-1A57637F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6440AA-DF9F-421D-A3E7-0A9DE0C3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DAC007-5C5C-46B5-B1AA-CAC935475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4C830-28A1-4EEA-8FAA-702490D8C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99824F-E900-4C63-B87B-978A2E651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714B6C-9975-4CDA-A39F-AE7E0D298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D7FFF9-7321-4114-9605-F98F56DF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69A40E-848E-457E-8423-7F1EC342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55EF6B-6EB2-431F-A16E-90FFEFE2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01465E-74C7-4853-A773-20038E23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BCD29B-3330-409A-A538-ACF3D9C4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ED52DB-D003-49AA-A959-CE9C6C0F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BB38C4-4E1C-40AC-BDAA-C232F836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6AD9C9-C5B5-429F-8F8D-5FA75157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9DC07-8390-4509-89D0-6F51A6C7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F0E2B2-0A9E-4F63-BCA0-C54C3BF9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35DA78-F899-4B86-A951-F3C4692B3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43FBC0-B499-46E2-9068-19E1F44A4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AB0D8C-C79E-42D0-868A-EB44CF2CB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4FD31E-0C73-4D74-866C-0FD6C03E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1BA83B-4A5C-4B5E-A4A9-3E1F8506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EC6ED3-6166-41A0-936E-4845EE7F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2E5BD4-94A2-4AA8-BF2D-3A2EAB268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19BD7C-1595-40B7-B854-4437A81E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AC84E7-08F1-4A78-A4A5-7853C2AC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777FB-4C2F-462A-9BE8-D0112C93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EB5A2C-AD88-41D9-8AD6-93C10D43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B93FF0-7C1D-498F-A7AF-3A5C1E1C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8A6E86-24D3-4E3F-9447-2A54C1BC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51C4DB-341F-4AF1-B66E-3A6B68552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E7B729-158B-4CE8-8FFA-78F81054E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DBA1C0-F0FC-4A03-BF4F-D7CBF62D3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330901-30D8-463B-B616-E207254B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33CEC0-3A6B-477E-9111-149CFBC5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4D8358-8CF0-4673-9A0E-5051E6C9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034900-8D78-410E-BF39-895109A0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2F86F-35D2-42AE-8005-D7FDCC15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379A75-46AE-4A92-AE55-E7F88313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D604ED-48C4-4730-9403-983D0458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3AADA9-2DA9-4341-B8BA-4187E7C7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4AF46C-0C9E-476C-8956-15B84A34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7D5E09-3F78-4012-AA95-E70357C4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65B431-3290-4ED9-86B9-4A60946E0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AA9037-1ECD-4A1D-9DF4-28AA4D9ED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3E3E42-2A49-4648-8462-7451961AD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486839-BA74-4DF3-AB56-CCEDC57A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B146C5-BBCE-4B09-909B-AB686C58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09E7-8EEF-43FF-BF1F-8F92D9336F85}" type="slidenum"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TextBox 12"/>
          <p:cNvSpPr/>
          <p:nvPr/>
        </p:nvSpPr>
        <p:spPr>
          <a:xfrm>
            <a:off x="4161600" y="6464160"/>
            <a:ext cx="8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Fengkaixi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十字星 1027"/>
          <p:cNvSpPr/>
          <p:nvPr/>
        </p:nvSpPr>
        <p:spPr>
          <a:xfrm>
            <a:off x="112680" y="658656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十字星 40"/>
          <p:cNvSpPr/>
          <p:nvPr/>
        </p:nvSpPr>
        <p:spPr>
          <a:xfrm>
            <a:off x="8955000" y="660708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TextBox 12"/>
          <p:cNvSpPr/>
          <p:nvPr/>
        </p:nvSpPr>
        <p:spPr>
          <a:xfrm>
            <a:off x="4161600" y="6464160"/>
            <a:ext cx="8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Fengkaixi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十字星 1027"/>
          <p:cNvSpPr/>
          <p:nvPr/>
        </p:nvSpPr>
        <p:spPr>
          <a:xfrm>
            <a:off x="112680" y="658656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十字星 40"/>
          <p:cNvSpPr/>
          <p:nvPr/>
        </p:nvSpPr>
        <p:spPr>
          <a:xfrm>
            <a:off x="8955000" y="660708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8"/>
          </p:nvPr>
        </p:nvSpPr>
        <p:spPr>
          <a:xfrm>
            <a:off x="3124080" y="544464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04A6-CFD0-4B65-A080-FD54E1EEA98B}" type="slidenum"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TextBox 12"/>
          <p:cNvSpPr/>
          <p:nvPr/>
        </p:nvSpPr>
        <p:spPr>
          <a:xfrm>
            <a:off x="4161600" y="6464160"/>
            <a:ext cx="8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Fengkaixi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十字星 1027"/>
          <p:cNvSpPr/>
          <p:nvPr/>
        </p:nvSpPr>
        <p:spPr>
          <a:xfrm>
            <a:off x="112680" y="658656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十字星 40"/>
          <p:cNvSpPr/>
          <p:nvPr/>
        </p:nvSpPr>
        <p:spPr>
          <a:xfrm>
            <a:off x="8955000" y="660708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ftr" idx="31"/>
          </p:nvPr>
        </p:nvSpPr>
        <p:spPr>
          <a:xfrm>
            <a:off x="3124080" y="544464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0841-C052-4064-9D3F-CD6FAF6C7AC2}" type="slidenum"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4161600" y="6464160"/>
            <a:ext cx="8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Fengkaixi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十字星 1027"/>
          <p:cNvSpPr/>
          <p:nvPr/>
        </p:nvSpPr>
        <p:spPr>
          <a:xfrm>
            <a:off x="112680" y="658656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十字星 40"/>
          <p:cNvSpPr/>
          <p:nvPr/>
        </p:nvSpPr>
        <p:spPr>
          <a:xfrm>
            <a:off x="8955000" y="660708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ftr" idx="4"/>
          </p:nvPr>
        </p:nvSpPr>
        <p:spPr>
          <a:xfrm>
            <a:off x="3124080" y="544464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8A02-66C5-4284-907D-AF16582B0C0E}" type="slidenum"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2"/>
          <p:cNvSpPr/>
          <p:nvPr/>
        </p:nvSpPr>
        <p:spPr>
          <a:xfrm>
            <a:off x="4161600" y="6464160"/>
            <a:ext cx="8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Fengkaixi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十字星 1027"/>
          <p:cNvSpPr/>
          <p:nvPr/>
        </p:nvSpPr>
        <p:spPr>
          <a:xfrm>
            <a:off x="112680" y="658656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十字星 40"/>
          <p:cNvSpPr/>
          <p:nvPr/>
        </p:nvSpPr>
        <p:spPr>
          <a:xfrm>
            <a:off x="8955000" y="660708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ftr" idx="7"/>
          </p:nvPr>
        </p:nvSpPr>
        <p:spPr>
          <a:xfrm>
            <a:off x="3124080" y="544464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6D34-DFEA-4756-844E-DD62AE58EAD1}" type="slidenum"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12"/>
          <p:cNvSpPr/>
          <p:nvPr/>
        </p:nvSpPr>
        <p:spPr>
          <a:xfrm>
            <a:off x="4161600" y="6464160"/>
            <a:ext cx="8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Fengkaixi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十字星 1027"/>
          <p:cNvSpPr/>
          <p:nvPr/>
        </p:nvSpPr>
        <p:spPr>
          <a:xfrm>
            <a:off x="112680" y="658656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十字星 40"/>
          <p:cNvSpPr/>
          <p:nvPr/>
        </p:nvSpPr>
        <p:spPr>
          <a:xfrm>
            <a:off x="8955000" y="660708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10"/>
          </p:nvPr>
        </p:nvSpPr>
        <p:spPr>
          <a:xfrm>
            <a:off x="3124080" y="544464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1B71-710C-4134-B111-DFB646CB31AA}" type="slidenum"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12"/>
          <p:cNvSpPr/>
          <p:nvPr/>
        </p:nvSpPr>
        <p:spPr>
          <a:xfrm>
            <a:off x="4161600" y="6464160"/>
            <a:ext cx="8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Fengkaixi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十字星 1027"/>
          <p:cNvSpPr/>
          <p:nvPr/>
        </p:nvSpPr>
        <p:spPr>
          <a:xfrm>
            <a:off x="112680" y="658656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十字星 40"/>
          <p:cNvSpPr/>
          <p:nvPr/>
        </p:nvSpPr>
        <p:spPr>
          <a:xfrm>
            <a:off x="8955000" y="660708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3"/>
          </p:nvPr>
        </p:nvSpPr>
        <p:spPr>
          <a:xfrm>
            <a:off x="3124080" y="544464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AE57-8272-4865-BA76-03FF42223D3C}" type="slidenum"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12"/>
          <p:cNvSpPr/>
          <p:nvPr/>
        </p:nvSpPr>
        <p:spPr>
          <a:xfrm>
            <a:off x="4161600" y="6464160"/>
            <a:ext cx="8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Fengkaixi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十字星 1027"/>
          <p:cNvSpPr/>
          <p:nvPr/>
        </p:nvSpPr>
        <p:spPr>
          <a:xfrm>
            <a:off x="112680" y="658656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十字星 40"/>
          <p:cNvSpPr/>
          <p:nvPr/>
        </p:nvSpPr>
        <p:spPr>
          <a:xfrm>
            <a:off x="8955000" y="660708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ftr" idx="16"/>
          </p:nvPr>
        </p:nvSpPr>
        <p:spPr>
          <a:xfrm>
            <a:off x="3124080" y="544464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0ACC-5637-419C-9C3B-41E2A08E47A0}" type="slidenum"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12"/>
          <p:cNvSpPr/>
          <p:nvPr/>
        </p:nvSpPr>
        <p:spPr>
          <a:xfrm>
            <a:off x="4161600" y="6464160"/>
            <a:ext cx="8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Fengkaixi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十字星 1027"/>
          <p:cNvSpPr/>
          <p:nvPr/>
        </p:nvSpPr>
        <p:spPr>
          <a:xfrm>
            <a:off x="112680" y="658656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十字星 40"/>
          <p:cNvSpPr/>
          <p:nvPr/>
        </p:nvSpPr>
        <p:spPr>
          <a:xfrm>
            <a:off x="8955000" y="660708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19"/>
          </p:nvPr>
        </p:nvSpPr>
        <p:spPr>
          <a:xfrm>
            <a:off x="3124080" y="544464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904E-E50E-4E60-B7DB-F6AB5E0FDBB3}" type="slidenum"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12"/>
          <p:cNvSpPr/>
          <p:nvPr/>
        </p:nvSpPr>
        <p:spPr>
          <a:xfrm>
            <a:off x="4161600" y="6464160"/>
            <a:ext cx="8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Fengkaixi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十字星 1027"/>
          <p:cNvSpPr/>
          <p:nvPr/>
        </p:nvSpPr>
        <p:spPr>
          <a:xfrm>
            <a:off x="112680" y="658656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十字星 40"/>
          <p:cNvSpPr/>
          <p:nvPr/>
        </p:nvSpPr>
        <p:spPr>
          <a:xfrm>
            <a:off x="8955000" y="660708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矩形 14"/>
          <p:cNvSpPr/>
          <p:nvPr/>
        </p:nvSpPr>
        <p:spPr>
          <a:xfrm>
            <a:off x="88920" y="549360"/>
            <a:ext cx="8947080" cy="934920"/>
          </a:xfrm>
          <a:prstGeom prst="rect">
            <a:avLst/>
          </a:prstGeom>
          <a:solidFill>
            <a:srgbClr val="ff5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5" name="Picture 1" descr=""/>
          <p:cNvPicPr/>
          <p:nvPr/>
        </p:nvPicPr>
        <p:blipFill>
          <a:blip r:embed="rId2"/>
          <a:stretch/>
        </p:blipFill>
        <p:spPr>
          <a:xfrm>
            <a:off x="7667640" y="44280"/>
            <a:ext cx="1301760" cy="2779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ftr" idx="22"/>
          </p:nvPr>
        </p:nvSpPr>
        <p:spPr>
          <a:xfrm>
            <a:off x="3124080" y="544464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769F-576C-43C8-B918-DCD335786D23}" type="slidenum"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Box 12"/>
          <p:cNvSpPr/>
          <p:nvPr/>
        </p:nvSpPr>
        <p:spPr>
          <a:xfrm>
            <a:off x="4161600" y="6464160"/>
            <a:ext cx="8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Fengkaixi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十字星 1027"/>
          <p:cNvSpPr/>
          <p:nvPr/>
        </p:nvSpPr>
        <p:spPr>
          <a:xfrm>
            <a:off x="112680" y="658656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十字星 40"/>
          <p:cNvSpPr/>
          <p:nvPr/>
        </p:nvSpPr>
        <p:spPr>
          <a:xfrm>
            <a:off x="8955000" y="660708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ftr" idx="25"/>
          </p:nvPr>
        </p:nvSpPr>
        <p:spPr>
          <a:xfrm>
            <a:off x="3124080" y="544464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F449-D314-4364-A1EB-E62DD67A1F59}" type="slidenum"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矩形 4"/>
          <p:cNvSpPr/>
          <p:nvPr/>
        </p:nvSpPr>
        <p:spPr>
          <a:xfrm>
            <a:off x="179280" y="5013360"/>
            <a:ext cx="8837640" cy="1295280"/>
          </a:xfrm>
          <a:prstGeom prst="rect">
            <a:avLst/>
          </a:prstGeom>
          <a:solidFill>
            <a:srgbClr val="ff5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9" name="Picture 2" descr=""/>
          <p:cNvPicPr/>
          <p:nvPr/>
        </p:nvPicPr>
        <p:blipFill>
          <a:blip r:embed="rId1"/>
          <a:stretch/>
        </p:blipFill>
        <p:spPr>
          <a:xfrm rot="1248600">
            <a:off x="1623600" y="50760"/>
            <a:ext cx="5694480" cy="47181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8" descr=""/>
          <p:cNvPicPr/>
          <p:nvPr/>
        </p:nvPicPr>
        <p:blipFill>
          <a:blip r:embed="rId2"/>
          <a:stretch/>
        </p:blipFill>
        <p:spPr>
          <a:xfrm>
            <a:off x="6175440" y="3645000"/>
            <a:ext cx="2789280" cy="11523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" descr=""/>
          <p:cNvPicPr/>
          <p:nvPr/>
        </p:nvPicPr>
        <p:blipFill>
          <a:blip r:embed="rId3"/>
          <a:stretch/>
        </p:blipFill>
        <p:spPr>
          <a:xfrm>
            <a:off x="127080" y="3645000"/>
            <a:ext cx="2573280" cy="1179360"/>
          </a:xfrm>
          <a:prstGeom prst="rect">
            <a:avLst/>
          </a:prstGeom>
          <a:ln w="0">
            <a:noFill/>
          </a:ln>
        </p:spPr>
      </p:pic>
      <p:sp>
        <p:nvSpPr>
          <p:cNvPr id="542" name="TextBox 6"/>
          <p:cNvSpPr/>
          <p:nvPr/>
        </p:nvSpPr>
        <p:spPr>
          <a:xfrm>
            <a:off x="395280" y="5229360"/>
            <a:ext cx="812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</a:t>
            </a: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度述职报告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矩形 24"/>
          <p:cNvSpPr/>
          <p:nvPr/>
        </p:nvSpPr>
        <p:spPr>
          <a:xfrm>
            <a:off x="3166920" y="4638600"/>
            <a:ext cx="2810160" cy="167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矩形 25"/>
          <p:cNvSpPr/>
          <p:nvPr/>
        </p:nvSpPr>
        <p:spPr>
          <a:xfrm>
            <a:off x="6156360" y="4638600"/>
            <a:ext cx="2808360" cy="167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矩形 2"/>
          <p:cNvSpPr/>
          <p:nvPr/>
        </p:nvSpPr>
        <p:spPr>
          <a:xfrm>
            <a:off x="179280" y="4638600"/>
            <a:ext cx="2808360" cy="167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Picture 14" descr="C:\Documents and Settings\Administrator\桌面\锐\2012年新年素材\龙4\6090.jpg"/>
          <p:cNvPicPr/>
          <p:nvPr/>
        </p:nvPicPr>
        <p:blipFill>
          <a:blip r:embed="rId1"/>
          <a:stretch/>
        </p:blipFill>
        <p:spPr>
          <a:xfrm>
            <a:off x="6300720" y="4724280"/>
            <a:ext cx="2519280" cy="152712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15" descr=""/>
          <p:cNvPicPr/>
          <p:nvPr/>
        </p:nvPicPr>
        <p:blipFill>
          <a:blip r:embed="rId2"/>
          <a:stretch/>
        </p:blipFill>
        <p:spPr>
          <a:xfrm>
            <a:off x="2664000" y="3429000"/>
            <a:ext cx="3995640" cy="36720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8" descr=""/>
          <p:cNvPicPr/>
          <p:nvPr/>
        </p:nvPicPr>
        <p:blipFill>
          <a:blip r:embed="rId3"/>
          <a:stretch/>
        </p:blipFill>
        <p:spPr>
          <a:xfrm>
            <a:off x="250920" y="4840200"/>
            <a:ext cx="2665440" cy="1160640"/>
          </a:xfrm>
          <a:prstGeom prst="rect">
            <a:avLst/>
          </a:prstGeom>
          <a:ln w="0">
            <a:noFill/>
          </a:ln>
        </p:spPr>
      </p:pic>
      <p:sp>
        <p:nvSpPr>
          <p:cNvPr id="602" name="矩形 28"/>
          <p:cNvSpPr/>
          <p:nvPr/>
        </p:nvSpPr>
        <p:spPr>
          <a:xfrm>
            <a:off x="88920" y="549360"/>
            <a:ext cx="8947080" cy="3671640"/>
          </a:xfrm>
          <a:prstGeom prst="rect">
            <a:avLst/>
          </a:prstGeom>
          <a:solidFill>
            <a:srgbClr val="ff5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矩形 29"/>
          <p:cNvSpPr/>
          <p:nvPr/>
        </p:nvSpPr>
        <p:spPr>
          <a:xfrm>
            <a:off x="971640" y="214956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,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飞龙崛起 再创佳绩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Box 1"/>
          <p:cNvSpPr/>
          <p:nvPr/>
        </p:nvSpPr>
        <p:spPr>
          <a:xfrm>
            <a:off x="250920" y="549360"/>
            <a:ext cx="26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4" name="图示 3" descr=""/>
          <p:cNvPicPr/>
          <p:nvPr/>
        </p:nvPicPr>
        <p:blipFill>
          <a:blip r:embed="rId1"/>
          <a:stretch/>
        </p:blipFill>
        <p:spPr>
          <a:xfrm>
            <a:off x="1316160" y="1835280"/>
            <a:ext cx="615780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Box 1"/>
          <p:cNvSpPr/>
          <p:nvPr/>
        </p:nvSpPr>
        <p:spPr>
          <a:xfrm>
            <a:off x="1258920" y="633240"/>
            <a:ext cx="78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年度履职情况及成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6" name="图示 3" descr=""/>
          <p:cNvPicPr/>
          <p:nvPr/>
        </p:nvPicPr>
        <p:blipFill>
          <a:blip r:embed="rId1"/>
          <a:stretch/>
        </p:blipFill>
        <p:spPr>
          <a:xfrm>
            <a:off x="1427040" y="2048040"/>
            <a:ext cx="5424480" cy="3127320"/>
          </a:xfrm>
          <a:prstGeom prst="rect">
            <a:avLst/>
          </a:prstGeom>
          <a:ln w="0">
            <a:noFill/>
          </a:ln>
        </p:spPr>
      </p:pic>
      <p:grpSp>
        <p:nvGrpSpPr>
          <p:cNvPr id="547" name="组合 1"/>
          <p:cNvGrpSpPr/>
          <p:nvPr/>
        </p:nvGrpSpPr>
        <p:grpSpPr>
          <a:xfrm>
            <a:off x="179280" y="633240"/>
            <a:ext cx="1219320" cy="756000"/>
            <a:chOff x="179280" y="633240"/>
            <a:chExt cx="1219320" cy="756000"/>
          </a:xfrm>
        </p:grpSpPr>
        <p:sp>
          <p:nvSpPr>
            <p:cNvPr id="548" name="圆角矩形 5"/>
            <p:cNvSpPr/>
            <p:nvPr/>
          </p:nvSpPr>
          <p:spPr>
            <a:xfrm>
              <a:off x="193680" y="644400"/>
              <a:ext cx="1195560" cy="732240"/>
            </a:xfrm>
            <a:prstGeom prst="roundRect">
              <a:avLst>
                <a:gd name="adj" fmla="val 10000"/>
              </a:avLst>
            </a:prstGeom>
            <a:solidFill>
              <a:srgbClr val="ffffff"/>
            </a:solidFill>
            <a:ln w="25560">
              <a:solidFill>
                <a:srgbClr val="ff38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9" name="圆角矩形 4"/>
            <p:cNvGrpSpPr/>
            <p:nvPr/>
          </p:nvGrpSpPr>
          <p:grpSpPr>
            <a:xfrm>
              <a:off x="179280" y="633240"/>
              <a:ext cx="1219320" cy="756000"/>
              <a:chOff x="179280" y="633240"/>
              <a:chExt cx="1219320" cy="756000"/>
            </a:xfrm>
          </p:grpSpPr>
          <p:pic>
            <p:nvPicPr>
              <p:cNvPr id="550" name="圆角矩形 4" descr=""/>
              <p:cNvPicPr/>
              <p:nvPr/>
            </p:nvPicPr>
            <p:blipFill>
              <a:blip r:embed="rId2"/>
              <a:stretch/>
            </p:blipFill>
            <p:spPr>
              <a:xfrm>
                <a:off x="179280" y="633240"/>
                <a:ext cx="1219320" cy="75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1" name=""/>
              <p:cNvSpPr/>
              <p:nvPr/>
            </p:nvSpPr>
            <p:spPr>
              <a:xfrm>
                <a:off x="215280" y="665640"/>
                <a:ext cx="1152000" cy="68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组合 4"/>
          <p:cNvGrpSpPr/>
          <p:nvPr/>
        </p:nvGrpSpPr>
        <p:grpSpPr>
          <a:xfrm>
            <a:off x="108000" y="1542960"/>
            <a:ext cx="1942920" cy="517680"/>
            <a:chOff x="108000" y="1542960"/>
            <a:chExt cx="1942920" cy="517680"/>
          </a:xfrm>
        </p:grpSpPr>
        <p:sp>
          <p:nvSpPr>
            <p:cNvPr id="553" name="矩形 5"/>
            <p:cNvSpPr/>
            <p:nvPr/>
          </p:nvSpPr>
          <p:spPr>
            <a:xfrm>
              <a:off x="108000" y="1542960"/>
              <a:ext cx="1942920" cy="517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c00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矩形 6"/>
            <p:cNvSpPr/>
            <p:nvPr/>
          </p:nvSpPr>
          <p:spPr>
            <a:xfrm>
              <a:off x="108000" y="1542960"/>
              <a:ext cx="1942920" cy="517680"/>
            </a:xfrm>
            <a:prstGeom prst="rect">
              <a:avLst/>
            </a:prstGeom>
            <a:noFill/>
            <a:ln w="9360">
              <a:solidFill>
                <a:srgbClr val="9c00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3240" anchor="ctr">
              <a:no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Ⅰ </a:t>
              </a: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人员现状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5" name="TextBox 1"/>
          <p:cNvSpPr/>
          <p:nvPr/>
        </p:nvSpPr>
        <p:spPr>
          <a:xfrm>
            <a:off x="1258920" y="633240"/>
            <a:ext cx="78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年度履职情况及成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6" name="组合 12"/>
          <p:cNvGrpSpPr/>
          <p:nvPr/>
        </p:nvGrpSpPr>
        <p:grpSpPr>
          <a:xfrm>
            <a:off x="179280" y="633240"/>
            <a:ext cx="1219320" cy="756000"/>
            <a:chOff x="179280" y="633240"/>
            <a:chExt cx="1219320" cy="756000"/>
          </a:xfrm>
        </p:grpSpPr>
        <p:sp>
          <p:nvSpPr>
            <p:cNvPr id="557" name="圆角矩形 13"/>
            <p:cNvSpPr/>
            <p:nvPr/>
          </p:nvSpPr>
          <p:spPr>
            <a:xfrm>
              <a:off x="193680" y="644400"/>
              <a:ext cx="1195560" cy="732240"/>
            </a:xfrm>
            <a:prstGeom prst="roundRect">
              <a:avLst>
                <a:gd name="adj" fmla="val 10000"/>
              </a:avLst>
            </a:prstGeom>
            <a:solidFill>
              <a:srgbClr val="ffffff"/>
            </a:solidFill>
            <a:ln w="25560">
              <a:solidFill>
                <a:srgbClr val="ff38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58" name="圆角矩形 14"/>
            <p:cNvGrpSpPr/>
            <p:nvPr/>
          </p:nvGrpSpPr>
          <p:grpSpPr>
            <a:xfrm>
              <a:off x="179280" y="633240"/>
              <a:ext cx="1219320" cy="756000"/>
              <a:chOff x="179280" y="633240"/>
              <a:chExt cx="1219320" cy="756000"/>
            </a:xfrm>
          </p:grpSpPr>
          <p:pic>
            <p:nvPicPr>
              <p:cNvPr id="559" name="圆角矩形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179280" y="633240"/>
                <a:ext cx="1219320" cy="75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0" name=""/>
              <p:cNvSpPr/>
              <p:nvPr/>
            </p:nvSpPr>
            <p:spPr>
              <a:xfrm>
                <a:off x="215280" y="665640"/>
                <a:ext cx="1152000" cy="68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组合 2"/>
          <p:cNvGrpSpPr/>
          <p:nvPr/>
        </p:nvGrpSpPr>
        <p:grpSpPr>
          <a:xfrm>
            <a:off x="108000" y="1542960"/>
            <a:ext cx="1800000" cy="517680"/>
            <a:chOff x="108000" y="1542960"/>
            <a:chExt cx="1800000" cy="517680"/>
          </a:xfrm>
        </p:grpSpPr>
        <p:sp>
          <p:nvSpPr>
            <p:cNvPr id="562" name="矩形 3"/>
            <p:cNvSpPr/>
            <p:nvPr/>
          </p:nvSpPr>
          <p:spPr>
            <a:xfrm>
              <a:off x="108000" y="1542960"/>
              <a:ext cx="1800000" cy="517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c00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矩形 4"/>
            <p:cNvSpPr/>
            <p:nvPr/>
          </p:nvSpPr>
          <p:spPr>
            <a:xfrm>
              <a:off x="108000" y="1542960"/>
              <a:ext cx="1800000" cy="517680"/>
            </a:xfrm>
            <a:prstGeom prst="rect">
              <a:avLst/>
            </a:prstGeom>
            <a:noFill/>
            <a:ln w="9360">
              <a:solidFill>
                <a:srgbClr val="9c00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3240" anchor="ctr">
              <a:no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Ⅱ</a:t>
              </a: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效能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4" name="TextBox 1"/>
          <p:cNvSpPr/>
          <p:nvPr/>
        </p:nvSpPr>
        <p:spPr>
          <a:xfrm>
            <a:off x="1258920" y="633240"/>
            <a:ext cx="78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年度履职情况及成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5" name="组合 10"/>
          <p:cNvGrpSpPr/>
          <p:nvPr/>
        </p:nvGrpSpPr>
        <p:grpSpPr>
          <a:xfrm>
            <a:off x="179280" y="633240"/>
            <a:ext cx="1219320" cy="756000"/>
            <a:chOff x="179280" y="633240"/>
            <a:chExt cx="1219320" cy="756000"/>
          </a:xfrm>
        </p:grpSpPr>
        <p:sp>
          <p:nvSpPr>
            <p:cNvPr id="566" name="圆角矩形 11"/>
            <p:cNvSpPr/>
            <p:nvPr/>
          </p:nvSpPr>
          <p:spPr>
            <a:xfrm>
              <a:off x="193680" y="644400"/>
              <a:ext cx="1195560" cy="732240"/>
            </a:xfrm>
            <a:prstGeom prst="roundRect">
              <a:avLst>
                <a:gd name="adj" fmla="val 10000"/>
              </a:avLst>
            </a:prstGeom>
            <a:solidFill>
              <a:srgbClr val="ffffff"/>
            </a:solidFill>
            <a:ln w="25560">
              <a:solidFill>
                <a:srgbClr val="ff38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7" name="圆角矩形 12"/>
            <p:cNvGrpSpPr/>
            <p:nvPr/>
          </p:nvGrpSpPr>
          <p:grpSpPr>
            <a:xfrm>
              <a:off x="179280" y="633240"/>
              <a:ext cx="1219320" cy="756000"/>
              <a:chOff x="179280" y="633240"/>
              <a:chExt cx="1219320" cy="756000"/>
            </a:xfrm>
          </p:grpSpPr>
          <p:pic>
            <p:nvPicPr>
              <p:cNvPr id="568" name="圆角矩形 12" descr=""/>
              <p:cNvPicPr/>
              <p:nvPr/>
            </p:nvPicPr>
            <p:blipFill>
              <a:blip r:embed="rId1"/>
              <a:stretch/>
            </p:blipFill>
            <p:spPr>
              <a:xfrm>
                <a:off x="179280" y="633240"/>
                <a:ext cx="1219320" cy="75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9" name=""/>
              <p:cNvSpPr/>
              <p:nvPr/>
            </p:nvSpPr>
            <p:spPr>
              <a:xfrm>
                <a:off x="215280" y="665640"/>
                <a:ext cx="1152000" cy="68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组合 1"/>
          <p:cNvGrpSpPr/>
          <p:nvPr/>
        </p:nvGrpSpPr>
        <p:grpSpPr>
          <a:xfrm>
            <a:off x="108000" y="1542960"/>
            <a:ext cx="3095640" cy="517680"/>
            <a:chOff x="108000" y="1542960"/>
            <a:chExt cx="3095640" cy="517680"/>
          </a:xfrm>
        </p:grpSpPr>
        <p:sp>
          <p:nvSpPr>
            <p:cNvPr id="571" name="矩形 2"/>
            <p:cNvSpPr/>
            <p:nvPr/>
          </p:nvSpPr>
          <p:spPr>
            <a:xfrm>
              <a:off x="108000" y="1542960"/>
              <a:ext cx="3095640" cy="517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c00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矩形 3"/>
            <p:cNvSpPr/>
            <p:nvPr/>
          </p:nvSpPr>
          <p:spPr>
            <a:xfrm>
              <a:off x="108000" y="1542960"/>
              <a:ext cx="3095640" cy="517680"/>
            </a:xfrm>
            <a:prstGeom prst="rect">
              <a:avLst/>
            </a:prstGeom>
            <a:noFill/>
            <a:ln w="9360">
              <a:solidFill>
                <a:srgbClr val="9c00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3240" anchor="ctr">
              <a:no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Ⅲ </a:t>
              </a: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主要工作指标达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3" name="TextBox 1"/>
          <p:cNvSpPr/>
          <p:nvPr/>
        </p:nvSpPr>
        <p:spPr>
          <a:xfrm>
            <a:off x="1258920" y="633240"/>
            <a:ext cx="78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年度履职情况及成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4" name="组合 10"/>
          <p:cNvGrpSpPr/>
          <p:nvPr/>
        </p:nvGrpSpPr>
        <p:grpSpPr>
          <a:xfrm>
            <a:off x="179280" y="657360"/>
            <a:ext cx="1219320" cy="755640"/>
            <a:chOff x="179280" y="657360"/>
            <a:chExt cx="1219320" cy="755640"/>
          </a:xfrm>
        </p:grpSpPr>
        <p:sp>
          <p:nvSpPr>
            <p:cNvPr id="575" name="圆角矩形 11"/>
            <p:cNvSpPr/>
            <p:nvPr/>
          </p:nvSpPr>
          <p:spPr>
            <a:xfrm>
              <a:off x="193680" y="667800"/>
              <a:ext cx="1195560" cy="731880"/>
            </a:xfrm>
            <a:prstGeom prst="roundRect">
              <a:avLst>
                <a:gd name="adj" fmla="val 10000"/>
              </a:avLst>
            </a:prstGeom>
            <a:solidFill>
              <a:srgbClr val="ffffff"/>
            </a:solidFill>
            <a:ln w="25560">
              <a:solidFill>
                <a:srgbClr val="ff38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6" name="圆角矩形 12"/>
            <p:cNvGrpSpPr/>
            <p:nvPr/>
          </p:nvGrpSpPr>
          <p:grpSpPr>
            <a:xfrm>
              <a:off x="179280" y="657360"/>
              <a:ext cx="1219320" cy="755640"/>
              <a:chOff x="179280" y="657360"/>
              <a:chExt cx="1219320" cy="755640"/>
            </a:xfrm>
          </p:grpSpPr>
          <p:pic>
            <p:nvPicPr>
              <p:cNvPr id="577" name="圆角矩形 12" descr=""/>
              <p:cNvPicPr/>
              <p:nvPr/>
            </p:nvPicPr>
            <p:blipFill>
              <a:blip r:embed="rId1"/>
              <a:stretch/>
            </p:blipFill>
            <p:spPr>
              <a:xfrm>
                <a:off x="179280" y="657360"/>
                <a:ext cx="1219320" cy="7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8" name=""/>
              <p:cNvSpPr/>
              <p:nvPr/>
            </p:nvSpPr>
            <p:spPr>
              <a:xfrm>
                <a:off x="215280" y="689400"/>
                <a:ext cx="1152000" cy="68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Box 1"/>
          <p:cNvSpPr/>
          <p:nvPr/>
        </p:nvSpPr>
        <p:spPr>
          <a:xfrm>
            <a:off x="1403280" y="633240"/>
            <a:ext cx="55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-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能力态度自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0" name="圆角矩形 3"/>
          <p:cNvGrpSpPr/>
          <p:nvPr/>
        </p:nvGrpSpPr>
        <p:grpSpPr>
          <a:xfrm>
            <a:off x="165240" y="609480"/>
            <a:ext cx="1242720" cy="781200"/>
            <a:chOff x="165240" y="609480"/>
            <a:chExt cx="1242720" cy="781200"/>
          </a:xfrm>
        </p:grpSpPr>
        <p:pic>
          <p:nvPicPr>
            <p:cNvPr id="581" name="圆角矩形 3" descr=""/>
            <p:cNvPicPr/>
            <p:nvPr/>
          </p:nvPicPr>
          <p:blipFill>
            <a:blip r:embed="rId1"/>
            <a:stretch/>
          </p:blipFill>
          <p:spPr>
            <a:xfrm>
              <a:off x="165240" y="609480"/>
              <a:ext cx="124272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>
              <a:off x="201600" y="642960"/>
              <a:ext cx="117468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Box 1"/>
          <p:cNvSpPr/>
          <p:nvPr/>
        </p:nvSpPr>
        <p:spPr>
          <a:xfrm>
            <a:off x="1403280" y="62064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-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存在的主要问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4" name="组合 1"/>
          <p:cNvGrpSpPr/>
          <p:nvPr/>
        </p:nvGrpSpPr>
        <p:grpSpPr>
          <a:xfrm>
            <a:off x="179280" y="620640"/>
            <a:ext cx="1219320" cy="755640"/>
            <a:chOff x="179280" y="620640"/>
            <a:chExt cx="1219320" cy="755640"/>
          </a:xfrm>
        </p:grpSpPr>
        <p:sp>
          <p:nvSpPr>
            <p:cNvPr id="585" name="圆角矩形 3"/>
            <p:cNvSpPr/>
            <p:nvPr/>
          </p:nvSpPr>
          <p:spPr>
            <a:xfrm>
              <a:off x="238680" y="643680"/>
              <a:ext cx="1150560" cy="708840"/>
            </a:xfrm>
            <a:prstGeom prst="roundRect">
              <a:avLst>
                <a:gd name="adj" fmla="val 10000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86" name="圆角矩形 2"/>
            <p:cNvGrpSpPr/>
            <p:nvPr/>
          </p:nvGrpSpPr>
          <p:grpSpPr>
            <a:xfrm>
              <a:off x="179280" y="620640"/>
              <a:ext cx="1219320" cy="755640"/>
              <a:chOff x="179280" y="620640"/>
              <a:chExt cx="1219320" cy="755640"/>
            </a:xfrm>
          </p:grpSpPr>
          <p:pic>
            <p:nvPicPr>
              <p:cNvPr id="587" name="圆角矩形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79280" y="620640"/>
                <a:ext cx="1219320" cy="7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8" name=""/>
              <p:cNvSpPr/>
              <p:nvPr/>
            </p:nvSpPr>
            <p:spPr>
              <a:xfrm>
                <a:off x="215280" y="652680"/>
                <a:ext cx="1152000" cy="68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组合 6"/>
          <p:cNvGrpSpPr/>
          <p:nvPr/>
        </p:nvGrpSpPr>
        <p:grpSpPr>
          <a:xfrm>
            <a:off x="179280" y="620640"/>
            <a:ext cx="1219320" cy="770040"/>
            <a:chOff x="179280" y="620640"/>
            <a:chExt cx="1219320" cy="770040"/>
          </a:xfrm>
        </p:grpSpPr>
        <p:sp>
          <p:nvSpPr>
            <p:cNvPr id="590" name="圆角矩形 2"/>
            <p:cNvSpPr/>
            <p:nvPr/>
          </p:nvSpPr>
          <p:spPr>
            <a:xfrm>
              <a:off x="193680" y="620640"/>
              <a:ext cx="1195560" cy="744840"/>
            </a:xfrm>
            <a:prstGeom prst="roundRect">
              <a:avLst>
                <a:gd name="adj" fmla="val 10000"/>
              </a:avLst>
            </a:prstGeom>
            <a:solidFill>
              <a:srgbClr val="ffffff"/>
            </a:solidFill>
            <a:ln w="25560">
              <a:solidFill>
                <a:srgbClr val="e732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1" name="圆角矩形 1"/>
            <p:cNvGrpSpPr/>
            <p:nvPr/>
          </p:nvGrpSpPr>
          <p:grpSpPr>
            <a:xfrm>
              <a:off x="179280" y="621360"/>
              <a:ext cx="1219320" cy="769320"/>
              <a:chOff x="179280" y="621360"/>
              <a:chExt cx="1219320" cy="769320"/>
            </a:xfrm>
          </p:grpSpPr>
          <p:pic>
            <p:nvPicPr>
              <p:cNvPr id="592" name="圆角矩形 1" descr=""/>
              <p:cNvPicPr/>
              <p:nvPr/>
            </p:nvPicPr>
            <p:blipFill>
              <a:blip r:embed="rId1"/>
              <a:stretch/>
            </p:blipFill>
            <p:spPr>
              <a:xfrm>
                <a:off x="179280" y="621360"/>
                <a:ext cx="1219320" cy="76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3" name=""/>
              <p:cNvSpPr/>
              <p:nvPr/>
            </p:nvSpPr>
            <p:spPr>
              <a:xfrm>
                <a:off x="215280" y="655560"/>
                <a:ext cx="115200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4" name="矩形 3"/>
          <p:cNvSpPr/>
          <p:nvPr/>
        </p:nvSpPr>
        <p:spPr>
          <a:xfrm>
            <a:off x="1403280" y="620640"/>
            <a:ext cx="69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-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后续工作设想及改善计划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xtBox 1"/>
          <p:cNvSpPr/>
          <p:nvPr/>
        </p:nvSpPr>
        <p:spPr>
          <a:xfrm>
            <a:off x="1424160" y="2421000"/>
            <a:ext cx="57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存在的主要问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03:33:56Z</dcterms:created>
  <dc:creator>冯凯欣</dc:creator>
  <dc:description/>
  <dc:language>en-US</dc:language>
  <cp:lastModifiedBy>www.pc6.com</cp:lastModifiedBy>
  <dcterms:modified xsi:type="dcterms:W3CDTF">2012-02-16T03:58:11Z</dcterms:modified>
  <cp:revision>67</cp:revision>
  <dc:subject/>
  <dc:title>PowerPoint 演示文稿</dc:title>
</cp:coreProperties>
</file>