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DAE-3F3B-4B1A-A366-F058C570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03B-7577-4921-A9D3-BE229D7D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A581-F8B9-4DFB-9999-CC4A5863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83B-BC75-4437-B085-A84B89BA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01D-0CA7-47B6-8C35-DC5FE860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890-B29E-4A7F-9B73-282F8E5D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F19-392F-46CF-BE33-7C34805A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2B47-FAE2-4A31-8FAB-1DE1A95D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DE2-9C80-4972-BC96-B8F9B126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6FD-C896-4ADC-9C7C-500F4469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BE4-C4C4-41BC-88AC-C67EFE69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680-D697-4D39-930E-995955EB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8F1E-EAE4-4FC5-ADB0-501EFB11BB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2"/>
          <a:stretch/>
        </p:blipFill>
        <p:spPr>
          <a:xfrm>
            <a:off x="652320" y="1225440"/>
            <a:ext cx="3486240" cy="12733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3"/>
          <a:stretch/>
        </p:blipFill>
        <p:spPr>
          <a:xfrm>
            <a:off x="5400720" y="5187960"/>
            <a:ext cx="3584520" cy="12682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"/>
          <p:cNvPicPr/>
          <p:nvPr/>
        </p:nvPicPr>
        <p:blipFill>
          <a:blip r:embed="rId4"/>
          <a:stretch/>
        </p:blipFill>
        <p:spPr>
          <a:xfrm>
            <a:off x="4273560" y="1268280"/>
            <a:ext cx="3029040" cy="63756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5"/>
          <a:stretch/>
        </p:blipFill>
        <p:spPr>
          <a:xfrm>
            <a:off x="414360" y="2535120"/>
            <a:ext cx="63579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E:\资料\图片素材\PSD和图片\辛伟乐_【文艺范2摄影师】教你如何拍出完美婚照❤❤☻...(1)\008.jpg"/>
          <p:cNvPicPr/>
          <p:nvPr/>
        </p:nvPicPr>
        <p:blipFill>
          <a:blip r:embed="rId1"/>
          <a:stretch/>
        </p:blipFill>
        <p:spPr>
          <a:xfrm>
            <a:off x="4280040" y="1616040"/>
            <a:ext cx="4157640" cy="80344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7" descr=""/>
          <p:cNvPicPr/>
          <p:nvPr/>
        </p:nvPicPr>
        <p:blipFill>
          <a:blip r:embed="rId2"/>
          <a:stretch/>
        </p:blipFill>
        <p:spPr>
          <a:xfrm>
            <a:off x="743040" y="652320"/>
            <a:ext cx="3975120" cy="17560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8" descr=""/>
          <p:cNvPicPr/>
          <p:nvPr/>
        </p:nvPicPr>
        <p:blipFill>
          <a:blip r:embed="rId3"/>
          <a:stretch/>
        </p:blipFill>
        <p:spPr>
          <a:xfrm>
            <a:off x="1255680" y="3236760"/>
            <a:ext cx="2646360" cy="116388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9" descr=""/>
          <p:cNvPicPr/>
          <p:nvPr/>
        </p:nvPicPr>
        <p:blipFill>
          <a:blip r:embed="rId4"/>
          <a:stretch/>
        </p:blipFill>
        <p:spPr>
          <a:xfrm>
            <a:off x="1255680" y="2548080"/>
            <a:ext cx="26463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E:\资料\图片素材\PSD和图片\辛伟乐_【文艺范2摄影师】教你如何拍出完美婚照❤❤☻...(1)\020.jpg"/>
          <p:cNvPicPr/>
          <p:nvPr/>
        </p:nvPicPr>
        <p:blipFill>
          <a:blip r:embed="rId1"/>
          <a:stretch/>
        </p:blipFill>
        <p:spPr>
          <a:xfrm>
            <a:off x="1944720" y="2255760"/>
            <a:ext cx="5492880" cy="73090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" descr=""/>
          <p:cNvPicPr/>
          <p:nvPr/>
        </p:nvPicPr>
        <p:blipFill>
          <a:blip r:embed="rId2"/>
          <a:stretch/>
        </p:blipFill>
        <p:spPr>
          <a:xfrm>
            <a:off x="30240" y="371520"/>
            <a:ext cx="63640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PT STORE</dc:creator>
  <dc:description>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高贵 浪漫 典雅 梦幻 紫色 婚庆 PPT模板</cp:keywords>
  <dc:language>en-US</dc:language>
  <cp:lastModifiedBy>微软用户</cp:lastModifiedBy>
  <dcterms:modified xsi:type="dcterms:W3CDTF">2012-01-11T08:30:36Z</dcterms:modified>
  <cp:revision>8</cp:revision>
  <dc:subject>紫色</dc:subject>
  <dc:title>高贵浪漫典雅梦幻紫色婚礼PPT模板</dc:title>
</cp:coreProperties>
</file>