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92A-2E0B-45B5-807E-E44CBC01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726-3BF1-465C-989F-6D3B7FFE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106-72A3-4474-825E-66662132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332-8849-4375-B8F6-F06807FA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5AB9-13AC-41ED-AA2B-06AE6C76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DDF1-B450-4FC9-A8EB-E8D9B123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7857-4E00-4C98-8F4A-F2620CF4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3D12-7F82-45BF-B700-CCAFB437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F179-820B-4920-8C3C-B4B7A068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8565-0D6B-4AB6-8C9D-734B9DC2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7687-BB35-492F-8D19-C23A1380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CF4-6CFB-4EC2-BDE4-D559E3F3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67A4-76A9-4ED6-AA0B-07678E9F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C71E-4D6C-444F-B118-26485B2E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BD72-759C-4E9A-A24C-10BBA3C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57B4-5A1B-41A2-AE45-75232784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7DCB-8510-439B-AD14-2A4033AA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AAAE-1A1C-4753-93BC-D682CFB6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6ACB-D075-4D7E-A3D8-40F57BB0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DC8E-5D93-4684-9CFE-778C777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F0D2-CF0A-4FFA-B844-5A8E0DB9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C3A2-804C-4495-97F6-7D5E47B7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039-068B-48E7-B3D8-AC3954DC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69AD-A29D-44CB-9F25-F5EAFD9C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916A-F570-4A0F-8EED-70EA7038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C213-E9AC-4350-8D35-9AAAFB2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64ACB-7D4B-47B6-AF8E-DD01E3C5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8BA7B-1CFC-4E99-818D-5B1AAFBE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96AF-4C0E-41F1-A134-DD11E043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6AB9-5342-426A-9C5E-87848E79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6947B-595F-445D-A263-F3EEBD6A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A4F8-5E0D-4888-AD74-517AAD30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DB20-0FD1-4342-A805-883767C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806-7702-41F8-8BE1-00AE04B2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E3F7-3563-4BDF-B54A-89F1F340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8B24-3456-4E55-B794-37AD50FA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7A03-02EE-42F4-8F67-B8E76D1E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6CEC-7B71-4F34-959A-496D759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9834-6DA3-4990-87AB-3AE70D8E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98B9-8179-4062-8ED7-904E2E63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2E1F-B200-4D3B-A65A-2AA18BE5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606C-27CC-46FE-87B1-CE35FB3F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550F7-9138-41BB-B551-BED1EA09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2DFB4-92D1-492E-BE6B-8D2E7261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DFC-F96C-4FBF-A677-E59EC716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CF51C-011D-460D-95B6-FB4722A3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9A74A-F86B-40BE-B735-B3AECF56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3C3BF-E7BE-4F33-B923-43A3C03B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F39E7-9B05-4D1F-BC3E-0ECF7595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196B8-F096-43EC-AADF-4B655AE3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41993-16E0-4A36-BBB0-CE66AA4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C05E-9DE6-4161-9A71-0001C615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67345-E92D-4A3E-A7C9-BB018E2C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62B3C-1990-45C8-A14B-BEE79AFF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34708-AF6D-4BD9-802D-BC20BAB2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4D5-1BD6-4D23-A742-4D513E54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CD2E-7EE6-437F-B341-D09E8797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D9FAA-B8E1-4366-A7E8-F76E27CA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57A31-D880-46D8-A78F-C388052C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427FB-C726-4678-8AE7-98F334C0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ECD8C-4BB8-4D5E-BE44-6F399FF5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9AF2-6005-49EA-8828-DE325F82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FE384-7C68-4713-8B2A-A89A20AD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11CA-6959-4A24-B6D2-7591BC33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03D7D-6B01-4AA4-9CA7-F673AEB9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25050-3BEF-4AB1-BAD2-B31D8FF0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08E-6F0E-487A-AC76-FAE69FFB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9CC81-6078-4B97-93F4-3F56169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3E1EE-C9AD-49D6-9224-D8E8CBE4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9D7B9-74E5-4F9D-A1E7-4CDB1D7F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28A-64E9-4148-AB4E-8B2C6F9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6CC-E3A2-4360-872F-710285B8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C765-4B36-42BA-B969-ECC57B53997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4B04-E9BD-457B-925B-665877F94F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F3BE-E6DA-4F37-8AAC-B45F9FE6EF5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ED8D-ACB9-48B2-BE4C-EE75EC15986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4947-D9C2-49A2-8288-10E298436B9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6ED7-62E1-4192-9830-9980AE77210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9734-78A3-470D-91E8-79CB55C4357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FB35-C6E1-4A86-8097-56B354EBDC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8411-2E55-4D81-B2AF-7534F75349C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1885-4CD2-4B76-8831-26EEEF1D17F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848D-E821-41E1-8BD0-54F05014321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C20A-930A-45BB-BB53-48993680840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5" descr=""/>
          <p:cNvPicPr/>
          <p:nvPr/>
        </p:nvPicPr>
        <p:blipFill>
          <a:blip r:embed="rId2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4" descr=""/>
          <p:cNvPicPr/>
          <p:nvPr/>
        </p:nvPicPr>
        <p:blipFill>
          <a:blip r:embed="rId3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7" descr=""/>
          <p:cNvPicPr/>
          <p:nvPr/>
        </p:nvPicPr>
        <p:blipFill>
          <a:blip r:embed="rId4">
            <a:lum bright="40000"/>
          </a:blip>
          <a:stretch/>
        </p:blipFill>
        <p:spPr>
          <a:xfrm>
            <a:off x="1440" y="53578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" descr=""/>
          <p:cNvPicPr/>
          <p:nvPr/>
        </p:nvPicPr>
        <p:blipFill>
          <a:blip r:embed="rId5"/>
          <a:stretch/>
        </p:blipFill>
        <p:spPr>
          <a:xfrm>
            <a:off x="0" y="5072040"/>
            <a:ext cx="9142560" cy="1676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3840" y="3571920"/>
            <a:ext cx="76438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d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eadline He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7371720" y="635796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直接连接符 10"/>
          <p:cNvSpPr/>
          <p:nvPr/>
        </p:nvSpPr>
        <p:spPr>
          <a:xfrm>
            <a:off x="0" y="5429160"/>
            <a:ext cx="911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12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440" y="51436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4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2752920" cy="275256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"/>
          <p:cNvPicPr/>
          <p:nvPr/>
        </p:nvPicPr>
        <p:blipFill>
          <a:blip r:embed="rId4"/>
          <a:stretch/>
        </p:blipFill>
        <p:spPr>
          <a:xfrm>
            <a:off x="2928960" y="71424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5" descr=""/>
          <p:cNvPicPr/>
          <p:nvPr/>
        </p:nvPicPr>
        <p:blipFill>
          <a:blip r:embed="rId5"/>
          <a:stretch/>
        </p:blipFill>
        <p:spPr>
          <a:xfrm>
            <a:off x="3571920" y="314316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7" descr=""/>
          <p:cNvPicPr/>
          <p:nvPr/>
        </p:nvPicPr>
        <p:blipFill>
          <a:blip r:embed="rId6"/>
          <a:stretch/>
        </p:blipFill>
        <p:spPr>
          <a:xfrm>
            <a:off x="5572080" y="785880"/>
            <a:ext cx="2752920" cy="2752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8"/>
          <p:cNvSpPr/>
          <p:nvPr/>
        </p:nvSpPr>
        <p:spPr>
          <a:xfrm>
            <a:off x="-1069200" y="4643280"/>
            <a:ext cx="57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itannic Bold"/>
                <a:ea typeface="Calibri"/>
              </a:rPr>
              <a:t>Team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6" descr=""/>
          <p:cNvPicPr/>
          <p:nvPr/>
        </p:nvPicPr>
        <p:blipFill>
          <a:blip r:embed="rId7"/>
          <a:stretch/>
        </p:blipFill>
        <p:spPr>
          <a:xfrm>
            <a:off x="6143760" y="3214800"/>
            <a:ext cx="2752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57"/>
          <p:cNvSpPr/>
          <p:nvPr/>
        </p:nvSpPr>
        <p:spPr>
          <a:xfrm>
            <a:off x="0" y="2500200"/>
            <a:ext cx="4643280" cy="3429000"/>
          </a:xfrm>
          <a:prstGeom prst="rect">
            <a:avLst/>
          </a:prstGeom>
          <a:solidFill>
            <a:srgbClr val="94d7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8"/>
          <p:cNvSpPr/>
          <p:nvPr/>
        </p:nvSpPr>
        <p:spPr>
          <a:xfrm>
            <a:off x="4643280" y="2500200"/>
            <a:ext cx="4500720" cy="3429000"/>
          </a:xfrm>
          <a:prstGeom prst="rect">
            <a:avLst/>
          </a:prstGeom>
          <a:solidFill>
            <a:srgbClr val="fd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5"/>
          <p:cNvSpPr/>
          <p:nvPr/>
        </p:nvSpPr>
        <p:spPr>
          <a:xfrm>
            <a:off x="33480" y="1571760"/>
            <a:ext cx="911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-946440" y="576360"/>
            <a:ext cx="45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84200" y="5203800"/>
            <a:ext cx="792000" cy="949320"/>
            <a:chOff x="484200" y="5203800"/>
            <a:chExt cx="792000" cy="949320"/>
          </a:xfrm>
        </p:grpSpPr>
        <p:pic>
          <p:nvPicPr>
            <p:cNvPr id="267" name="Picture 27" descr="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484200" y="520380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1"/>
            <p:cNvSpPr/>
            <p:nvPr/>
          </p:nvSpPr>
          <p:spPr>
            <a:xfrm>
              <a:off x="830160" y="534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88880" y="2649600"/>
            <a:ext cx="792360" cy="949320"/>
            <a:chOff x="488880" y="2649600"/>
            <a:chExt cx="792360" cy="949320"/>
          </a:xfrm>
        </p:grpSpPr>
        <p:pic>
          <p:nvPicPr>
            <p:cNvPr id="270" name="Picture 30" descr="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488880" y="26496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2"/>
            <p:cNvSpPr/>
            <p:nvPr/>
          </p:nvSpPr>
          <p:spPr>
            <a:xfrm>
              <a:off x="809640" y="274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0040" y="3506760"/>
            <a:ext cx="792360" cy="949320"/>
            <a:chOff x="500040" y="3506760"/>
            <a:chExt cx="792360" cy="949320"/>
          </a:xfrm>
        </p:grpSpPr>
        <p:pic>
          <p:nvPicPr>
            <p:cNvPr id="273" name="Picture 29" descr=""/>
            <p:cNvPicPr/>
            <p:nvPr/>
          </p:nvPicPr>
          <p:blipFill>
            <a:blip r:embed="rId4"/>
            <a:srcRect l="42620" t="64489" r="19467" b="0"/>
            <a:stretch/>
          </p:blipFill>
          <p:spPr>
            <a:xfrm>
              <a:off x="500040" y="350676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3"/>
            <p:cNvSpPr/>
            <p:nvPr/>
          </p:nvSpPr>
          <p:spPr>
            <a:xfrm>
              <a:off x="822240" y="3605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00040" y="4357800"/>
            <a:ext cx="792360" cy="949320"/>
            <a:chOff x="500040" y="4357800"/>
            <a:chExt cx="792360" cy="949320"/>
          </a:xfrm>
        </p:grpSpPr>
        <p:pic>
          <p:nvPicPr>
            <p:cNvPr id="276" name="Picture 28" descr=""/>
            <p:cNvPicPr/>
            <p:nvPr/>
          </p:nvPicPr>
          <p:blipFill>
            <a:blip r:embed="rId5"/>
            <a:srcRect l="42620" t="64489" r="19467" b="0"/>
            <a:stretch/>
          </p:blipFill>
          <p:spPr>
            <a:xfrm>
              <a:off x="500040" y="43578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34"/>
            <p:cNvSpPr/>
            <p:nvPr/>
          </p:nvSpPr>
          <p:spPr>
            <a:xfrm>
              <a:off x="822240" y="4492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775040" y="2649600"/>
            <a:ext cx="792360" cy="949320"/>
            <a:chOff x="4775040" y="2649600"/>
            <a:chExt cx="792360" cy="949320"/>
          </a:xfrm>
        </p:grpSpPr>
        <p:pic>
          <p:nvPicPr>
            <p:cNvPr id="279" name="Picture 30" descr=""/>
            <p:cNvPicPr/>
            <p:nvPr/>
          </p:nvPicPr>
          <p:blipFill>
            <a:blip r:embed="rId6"/>
            <a:srcRect l="42620" t="64489" r="19467" b="0"/>
            <a:stretch/>
          </p:blipFill>
          <p:spPr>
            <a:xfrm>
              <a:off x="4775040" y="26496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32"/>
            <p:cNvSpPr/>
            <p:nvPr/>
          </p:nvSpPr>
          <p:spPr>
            <a:xfrm>
              <a:off x="5095800" y="274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786200" y="3506760"/>
            <a:ext cx="792360" cy="949320"/>
            <a:chOff x="4786200" y="3506760"/>
            <a:chExt cx="792360" cy="949320"/>
          </a:xfrm>
        </p:grpSpPr>
        <p:pic>
          <p:nvPicPr>
            <p:cNvPr id="282" name="Picture 29" descr=""/>
            <p:cNvPicPr/>
            <p:nvPr/>
          </p:nvPicPr>
          <p:blipFill>
            <a:blip r:embed="rId7"/>
            <a:srcRect l="42620" t="64489" r="19467" b="0"/>
            <a:stretch/>
          </p:blipFill>
          <p:spPr>
            <a:xfrm>
              <a:off x="4786200" y="350676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33"/>
            <p:cNvSpPr/>
            <p:nvPr/>
          </p:nvSpPr>
          <p:spPr>
            <a:xfrm>
              <a:off x="5108400" y="3605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780080" y="4357800"/>
            <a:ext cx="792000" cy="949320"/>
            <a:chOff x="4780080" y="4357800"/>
            <a:chExt cx="792000" cy="949320"/>
          </a:xfrm>
        </p:grpSpPr>
        <p:pic>
          <p:nvPicPr>
            <p:cNvPr id="285" name="Picture 28" descr=""/>
            <p:cNvPicPr/>
            <p:nvPr/>
          </p:nvPicPr>
          <p:blipFill>
            <a:blip r:embed="rId8"/>
            <a:srcRect l="42620" t="64489" r="19467" b="0"/>
            <a:stretch/>
          </p:blipFill>
          <p:spPr>
            <a:xfrm>
              <a:off x="4780080" y="435780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34"/>
            <p:cNvSpPr/>
            <p:nvPr/>
          </p:nvSpPr>
          <p:spPr>
            <a:xfrm>
              <a:off x="5102280" y="4492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00040" y="1643040"/>
            <a:ext cx="3786120" cy="1191240"/>
            <a:chOff x="500040" y="1643040"/>
            <a:chExt cx="3786120" cy="1191240"/>
          </a:xfrm>
        </p:grpSpPr>
        <p:sp>
          <p:nvSpPr>
            <p:cNvPr id="288" name="矩形标注 30"/>
            <p:cNvSpPr/>
            <p:nvPr/>
          </p:nvSpPr>
          <p:spPr>
            <a:xfrm>
              <a:off x="500040" y="1714320"/>
              <a:ext cx="3786120" cy="642960"/>
            </a:xfrm>
            <a:prstGeom prst="wedgeRectCallout">
              <a:avLst>
                <a:gd name="adj1" fmla="val -39500"/>
                <a:gd name="adj2" fmla="val 95500"/>
              </a:avLst>
            </a:prstGeom>
            <a:solidFill>
              <a:srgbClr val="ffffff"/>
            </a:solidFill>
            <a:ln w="93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55"/>
            <p:cNvSpPr/>
            <p:nvPr/>
          </p:nvSpPr>
          <p:spPr>
            <a:xfrm>
              <a:off x="785520" y="164304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022280" y="1714680"/>
            <a:ext cx="4907520" cy="645840"/>
            <a:chOff x="4022280" y="1714680"/>
            <a:chExt cx="4907520" cy="645840"/>
          </a:xfrm>
        </p:grpSpPr>
        <p:sp>
          <p:nvSpPr>
            <p:cNvPr id="291" name="矩形标注 56"/>
            <p:cNvSpPr/>
            <p:nvPr/>
          </p:nvSpPr>
          <p:spPr>
            <a:xfrm>
              <a:off x="4786200" y="1717560"/>
              <a:ext cx="4143600" cy="642960"/>
            </a:xfrm>
            <a:prstGeom prst="wedgeRectCallout">
              <a:avLst>
                <a:gd name="adj1" fmla="val -38319"/>
                <a:gd name="adj2" fmla="val 77208"/>
              </a:avLst>
            </a:prstGeom>
            <a:solidFill>
              <a:srgbClr val="ffffff"/>
            </a:soli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68"/>
            <p:cNvSpPr/>
            <p:nvPr/>
          </p:nvSpPr>
          <p:spPr>
            <a:xfrm>
              <a:off x="4022280" y="1714680"/>
              <a:ext cx="32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矩形 61"/>
          <p:cNvSpPr/>
          <p:nvPr/>
        </p:nvSpPr>
        <p:spPr>
          <a:xfrm>
            <a:off x="438120" y="27860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714920" y="5072040"/>
            <a:ext cx="792000" cy="949320"/>
            <a:chOff x="4714920" y="5072040"/>
            <a:chExt cx="792000" cy="949320"/>
          </a:xfrm>
        </p:grpSpPr>
        <p:pic>
          <p:nvPicPr>
            <p:cNvPr id="295" name="Picture 27" descr=""/>
            <p:cNvPicPr/>
            <p:nvPr/>
          </p:nvPicPr>
          <p:blipFill>
            <a:blip r:embed="rId9"/>
            <a:srcRect l="42620" t="64489" r="19467" b="0"/>
            <a:stretch/>
          </p:blipFill>
          <p:spPr>
            <a:xfrm>
              <a:off x="4714920" y="507204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31"/>
            <p:cNvSpPr/>
            <p:nvPr/>
          </p:nvSpPr>
          <p:spPr>
            <a:xfrm>
              <a:off x="5060880" y="520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矩形 72"/>
          <p:cNvSpPr/>
          <p:nvPr/>
        </p:nvSpPr>
        <p:spPr>
          <a:xfrm>
            <a:off x="438120" y="36417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3"/>
          <p:cNvSpPr/>
          <p:nvPr/>
        </p:nvSpPr>
        <p:spPr>
          <a:xfrm>
            <a:off x="438120" y="449892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74"/>
          <p:cNvSpPr/>
          <p:nvPr/>
        </p:nvSpPr>
        <p:spPr>
          <a:xfrm>
            <a:off x="438120" y="52862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5"/>
          <p:cNvSpPr/>
          <p:nvPr/>
        </p:nvSpPr>
        <p:spPr>
          <a:xfrm>
            <a:off x="4724640" y="27147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6"/>
          <p:cNvSpPr/>
          <p:nvPr/>
        </p:nvSpPr>
        <p:spPr>
          <a:xfrm>
            <a:off x="4724640" y="357012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7"/>
          <p:cNvSpPr/>
          <p:nvPr/>
        </p:nvSpPr>
        <p:spPr>
          <a:xfrm>
            <a:off x="4724640" y="44276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78"/>
          <p:cNvSpPr/>
          <p:nvPr/>
        </p:nvSpPr>
        <p:spPr>
          <a:xfrm>
            <a:off x="4724640" y="52149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矩形 4"/>
          <p:cNvSpPr/>
          <p:nvPr/>
        </p:nvSpPr>
        <p:spPr>
          <a:xfrm>
            <a:off x="500040" y="4929120"/>
            <a:ext cx="64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4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5"/>
          <p:cNvSpPr/>
          <p:nvPr/>
        </p:nvSpPr>
        <p:spPr>
          <a:xfrm>
            <a:off x="642960" y="457200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1500120" y="264312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4"/>
          <p:cNvSpPr/>
          <p:nvPr/>
        </p:nvSpPr>
        <p:spPr>
          <a:xfrm>
            <a:off x="642960" y="457200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4"/>
          <p:cNvSpPr/>
          <p:nvPr/>
        </p:nvSpPr>
        <p:spPr>
          <a:xfrm>
            <a:off x="1500120" y="264312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5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7:14:00Z</dcterms:created>
  <dc:creator>dt</dc:creator>
  <dc:description/>
  <dc:language>en-US</dc:language>
  <cp:lastModifiedBy>Administrator</cp:lastModifiedBy>
  <cp:lastPrinted>1899-12-30T00:00:00Z</cp:lastPrinted>
  <dcterms:modified xsi:type="dcterms:W3CDTF">2011-11-01T09:13:00Z</dcterms:modified>
  <cp:revision>1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</Properties>
</file>